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E6B-62AC-4FC5-B2D8-8F5F5B89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5B9-986D-4FDF-875C-3F67C43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899-E620-4597-BE75-CCBDEF63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A1C-9CA6-49CA-BED9-EB155263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399-2D0E-47E5-B1AF-C1E3F26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B91-BA69-4E1D-BF75-9D28377E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E43-162B-4A5D-8ED2-4E2941D6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DF3-CC40-4CD0-AF81-E5FED43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478-F3BB-4657-90AB-9383BA0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7F0-1C08-4B07-B81F-8D8E9F60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6C6-7A34-42FE-A96A-4436367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695-B0BD-40AB-9AE5-3F6F9D29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556480" y="636804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9CF8-AB55-4504-B4BA-3E7ACD4287E1}" type="slidenum">
              <a:rPr b="1" lang="zh-TW" sz="26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331120" y="304920"/>
            <a:ext cx="812880" cy="8125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3962520" y="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http://couger.csie.ncku.edu.tw/~vr/koguyu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http://couger.csie.ncku.edu.tw/~vr/koguyu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40840" y="304920"/>
            <a:ext cx="803160" cy="803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003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4C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數位創作競賽－遊戲創作組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決賽簡報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23920" y="5084280"/>
            <a:ext cx="44197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6666"/>
                </a:solidFill>
                <a:latin typeface="Arial"/>
              </a:rPr>
              <a:t>編號</a:t>
            </a: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學校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國立成功大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隊伍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口古月遊戲製作小組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3200400"/>
            <a:ext cx="7391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參賽作品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1" lang="zh-TW" sz="4400" spc="-1" strike="noStrike">
                <a:solidFill>
                  <a:srgbClr val="003366"/>
                </a:solidFill>
                <a:latin typeface="標楷體"/>
                <a:ea typeface="標楷體"/>
              </a:rPr>
              <a:t>俠盜正傳</a:t>
            </a:r>
            <a:r>
              <a:rPr b="1" lang="zh-TW" sz="4400" spc="-1" strike="noStrike">
                <a:solidFill>
                  <a:srgbClr val="003366"/>
                </a:solidFill>
                <a:latin typeface="標楷體"/>
                <a:ea typeface="標楷體"/>
              </a:rPr>
              <a:t>-</a:t>
            </a:r>
            <a:r>
              <a:rPr b="1" lang="zh-TW" sz="4400" spc="-1" strike="noStrike">
                <a:solidFill>
                  <a:srgbClr val="003366"/>
                </a:solidFill>
                <a:latin typeface="標楷體"/>
                <a:ea typeface="標楷體"/>
              </a:rPr>
              <a:t>廖添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美術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~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平面設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38536"/>
          <a:stretch/>
        </p:blipFill>
        <p:spPr>
          <a:xfrm>
            <a:off x="5364000" y="2421000"/>
            <a:ext cx="3492720" cy="3733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803760" cy="3397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348000" y="458964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53920" y="602136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遊戲中的大幅插畫，模擬水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技法的方式表現中式柔和美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48480" y="60930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設計草圖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介面實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641-5D2B-4F59-8140-F474C58391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美術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~3</a:t>
            </a:r>
            <a:r>
              <a:rPr b="1" lang="en-US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D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建模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2395800" cy="338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627280" y="2205000"/>
            <a:ext cx="1681200" cy="237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627280" y="4437000"/>
            <a:ext cx="1625760" cy="2297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387520" cy="1790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516720" y="3500280"/>
            <a:ext cx="2205000" cy="1654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4500720" y="479736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1120" y="561168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遊戲中動態物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的模型建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4200" y="51069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場景的建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與地表鋪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8E2-96E3-4BCA-B657-1350033620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352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遊戲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CA3-2051-4128-981E-DA274A1ADB77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小組簡介與分工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Arial"/>
                <a:ea typeface="標楷體"/>
              </a:rPr>
              <a:t>開發簡介及完成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風格特色及設計理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遊戲背景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遊戲介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程式技術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美術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.</a:t>
            </a:r>
            <a:r>
              <a:rPr b="0" lang="zh-TW" sz="2600" spc="-1" strike="noStrike">
                <a:solidFill>
                  <a:srgbClr val="003366"/>
                </a:solidFill>
                <a:latin typeface="標楷體"/>
                <a:ea typeface="標楷體"/>
              </a:rPr>
              <a:t>遊戲ＤＥＭ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282-B723-4B4E-BD12-F7FD62F825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kgl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057400" y="48006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48360" y="4581360"/>
            <a:ext cx="3581280" cy="2095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4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.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小組簡介與分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3366"/>
                </a:solidFill>
                <a:uFillTx/>
                <a:latin typeface="Arial"/>
              </a:rPr>
              <a:t>口古月遊戲製作小組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成立於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2001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年，並於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2001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2002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年，分別以作品「</a:t>
            </a:r>
            <a:r>
              <a:rPr b="0" i="1" lang="en-US" sz="2400" spc="-1" strike="noStrike">
                <a:solidFill>
                  <a:srgbClr val="000000"/>
                </a:solidFill>
                <a:latin typeface="新細明體"/>
              </a:rPr>
              <a:t>XenoGalaxia </a:t>
            </a:r>
            <a:r>
              <a:rPr b="0" i="1" lang="zh-TW" sz="2400" spc="-1" strike="noStrike">
                <a:solidFill>
                  <a:srgbClr val="000000"/>
                </a:solidFill>
                <a:latin typeface="新細明體"/>
              </a:rPr>
              <a:t>異界星塵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」及「</a:t>
            </a:r>
            <a:r>
              <a:rPr b="0" i="1" lang="en-US" sz="2400" spc="-1" strike="noStrike">
                <a:solidFill>
                  <a:srgbClr val="000000"/>
                </a:solidFill>
                <a:latin typeface="新細明體"/>
              </a:rPr>
              <a:t>Sole Survivor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」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參加第一屆及第二屆中華盃遊戲設計大賽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3716280"/>
            <a:ext cx="7543440" cy="2819520"/>
            <a:chOff x="971640" y="3716280"/>
            <a:chExt cx="7543440" cy="2819520"/>
          </a:xfrm>
        </p:grpSpPr>
        <p:grpSp>
          <p:nvGrpSpPr>
            <p:cNvPr id="108" name=""/>
            <p:cNvGrpSpPr/>
            <p:nvPr/>
          </p:nvGrpSpPr>
          <p:grpSpPr>
            <a:xfrm>
              <a:off x="977040" y="3719160"/>
              <a:ext cx="7531200" cy="2813400"/>
              <a:chOff x="977040" y="3719160"/>
              <a:chExt cx="7531200" cy="28134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977040" y="3719160"/>
                <a:ext cx="1082160" cy="401760"/>
                <a:chOff x="977040" y="3719160"/>
                <a:chExt cx="1082160" cy="401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998280" y="3719160"/>
                  <a:ext cx="1039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3366"/>
                      </a:solidFill>
                      <a:latin typeface="華康細圓體(P)"/>
                      <a:ea typeface="標楷體"/>
                    </a:rPr>
                    <a:t>組員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977040" y="3719160"/>
                  <a:ext cx="1082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059560" y="3719160"/>
                <a:ext cx="3224160" cy="401760"/>
                <a:chOff x="2059560" y="3719160"/>
                <a:chExt cx="3224160" cy="401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80800" y="3719160"/>
                  <a:ext cx="31809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3366"/>
                      </a:solidFill>
                      <a:latin typeface="華康細圓體(P)"/>
                      <a:ea typeface="標楷體"/>
                    </a:rPr>
                    <a:t>就讀科系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59560" y="371916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284080" y="3719160"/>
                <a:ext cx="3224160" cy="401760"/>
                <a:chOff x="5284080" y="3719160"/>
                <a:chExt cx="3224160" cy="401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304960" y="3719160"/>
                  <a:ext cx="3181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3366"/>
                      </a:solidFill>
                      <a:latin typeface="華康細圓體(P)"/>
                      <a:ea typeface="標楷體"/>
                    </a:rPr>
                    <a:t>負責職務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284080" y="371916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977040" y="4120920"/>
                <a:ext cx="1082160" cy="401760"/>
                <a:chOff x="977040" y="4120920"/>
                <a:chExt cx="1082160" cy="401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998280" y="4120920"/>
                  <a:ext cx="1039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戴明仁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977040" y="4120920"/>
                  <a:ext cx="1082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059560" y="4120920"/>
                <a:ext cx="3224160" cy="401760"/>
                <a:chOff x="2059560" y="4120920"/>
                <a:chExt cx="3224160" cy="4017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080800" y="4120920"/>
                  <a:ext cx="31809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成功大學</a:t>
                  </a: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資訊工程學系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059560" y="412092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284080" y="4120920"/>
                <a:ext cx="3224160" cy="401760"/>
                <a:chOff x="5284080" y="4120920"/>
                <a:chExt cx="3224160" cy="4017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304960" y="4120920"/>
                  <a:ext cx="3181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引擎開發，遊戲程式，遊戲企劃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84080" y="412092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977040" y="4523040"/>
                <a:ext cx="1082160" cy="401760"/>
                <a:chOff x="977040" y="4523040"/>
                <a:chExt cx="1082160" cy="401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998280" y="4523040"/>
                  <a:ext cx="1039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鄧志仁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77040" y="4523040"/>
                  <a:ext cx="1082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059560" y="4523040"/>
                <a:ext cx="3224160" cy="401760"/>
                <a:chOff x="2059560" y="4523040"/>
                <a:chExt cx="3224160" cy="401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80800" y="4523040"/>
                  <a:ext cx="31809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成功大學</a:t>
                  </a: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資訊工程學系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059560" y="452304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284080" y="4523040"/>
                <a:ext cx="3224160" cy="401760"/>
                <a:chOff x="5284080" y="4523040"/>
                <a:chExt cx="3224160" cy="4017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304960" y="4523040"/>
                  <a:ext cx="3181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引擎開發，遊戲程式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84080" y="452304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977040" y="4924800"/>
                <a:ext cx="1082160" cy="401760"/>
                <a:chOff x="977040" y="4924800"/>
                <a:chExt cx="1082160" cy="4017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98280" y="4924800"/>
                  <a:ext cx="1039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朱宏國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77040" y="4924800"/>
                  <a:ext cx="1082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059560" y="4924800"/>
                <a:ext cx="3224160" cy="401760"/>
                <a:chOff x="2059560" y="4924800"/>
                <a:chExt cx="3224160" cy="401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80800" y="4924800"/>
                  <a:ext cx="31809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成功大學</a:t>
                  </a: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資訊工程學系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059560" y="492480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284080" y="4924800"/>
                <a:ext cx="3224160" cy="401760"/>
                <a:chOff x="5284080" y="4924800"/>
                <a:chExt cx="3224160" cy="401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304960" y="4924800"/>
                  <a:ext cx="3181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引擎開發，遊戲程式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284080" y="492480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977040" y="5326920"/>
                <a:ext cx="1082160" cy="402120"/>
                <a:chOff x="977040" y="5326920"/>
                <a:chExt cx="1082160" cy="402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998280" y="5326920"/>
                  <a:ext cx="103968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陳泂甫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977040" y="5326920"/>
                  <a:ext cx="1082160" cy="40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059560" y="5326920"/>
                <a:ext cx="3224160" cy="402120"/>
                <a:chOff x="2059560" y="5326920"/>
                <a:chExt cx="3224160" cy="402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80800" y="5326920"/>
                  <a:ext cx="318096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成功大學</a:t>
                  </a: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資訊工程學系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059560" y="5326920"/>
                  <a:ext cx="3224160" cy="40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284080" y="5326920"/>
                <a:ext cx="3224160" cy="402120"/>
                <a:chOff x="5284080" y="5326920"/>
                <a:chExt cx="3224160" cy="402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304960" y="5326920"/>
                  <a:ext cx="318168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引擎開發，遊戲企劃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84080" y="5326920"/>
                  <a:ext cx="3224160" cy="40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77040" y="5729040"/>
                <a:ext cx="1082160" cy="401760"/>
                <a:chOff x="977040" y="5729040"/>
                <a:chExt cx="1082160" cy="401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998280" y="5729040"/>
                  <a:ext cx="1039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賈維謙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77040" y="5729040"/>
                  <a:ext cx="1082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059560" y="5729040"/>
                <a:ext cx="3224160" cy="401760"/>
                <a:chOff x="2059560" y="5729040"/>
                <a:chExt cx="3224160" cy="401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80800" y="5729040"/>
                  <a:ext cx="31809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成功大學</a:t>
                  </a: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工業設計學系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059560" y="572904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284080" y="5729040"/>
                <a:ext cx="3224160" cy="401760"/>
                <a:chOff x="5284080" y="5729040"/>
                <a:chExt cx="3224160" cy="401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304960" y="5729040"/>
                  <a:ext cx="3181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平面設計，手冊製作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284080" y="572904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977040" y="6130800"/>
                <a:ext cx="1082160" cy="401760"/>
                <a:chOff x="977040" y="6130800"/>
                <a:chExt cx="1082160" cy="401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998280" y="6130800"/>
                  <a:ext cx="1039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楊基辰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977040" y="6130800"/>
                  <a:ext cx="1082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059560" y="6130800"/>
                <a:ext cx="3224160" cy="401760"/>
                <a:chOff x="2059560" y="6130800"/>
                <a:chExt cx="3224160" cy="4017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80800" y="6130800"/>
                  <a:ext cx="318096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3366"/>
                      </a:solidFill>
                      <a:latin typeface="Times New Roman"/>
                    </a:rPr>
                    <a:t>成功大學</a:t>
                  </a:r>
                  <a:r>
                    <a:rPr b="0" lang="zh-TW" sz="1600" spc="-1" strike="noStrike">
                      <a:solidFill>
                        <a:srgbClr val="003366"/>
                      </a:solidFill>
                      <a:latin typeface="華康細圓體(P)"/>
                    </a:rPr>
                    <a:t>建築學系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059560" y="613080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284080" y="6130800"/>
                <a:ext cx="3224160" cy="401760"/>
                <a:chOff x="5284080" y="6130800"/>
                <a:chExt cx="3224160" cy="401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304960" y="6130800"/>
                  <a:ext cx="318168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新細明體"/>
                    </a:rPr>
                    <a:t>3D</a:t>
                  </a:r>
                  <a:r>
                    <a:rPr b="0" lang="zh-TW" sz="1600" spc="-1" strike="noStrike">
                      <a:solidFill>
                        <a:srgbClr val="003366"/>
                      </a:solidFill>
                      <a:latin typeface="新細明體"/>
                    </a:rPr>
                    <a:t>建模，場景設計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284080" y="6130800"/>
                  <a:ext cx="3224160" cy="40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971640" y="3716280"/>
              <a:ext cx="75434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FFB-78B6-429B-9367-19569377F0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開發簡介及完成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2286000"/>
          <a:ext cx="7315200" cy="4181400"/>
        </p:xfrm>
        <a:graphic>
          <a:graphicData uri="http://schemas.openxmlformats.org/drawingml/2006/table">
            <a:tbl>
              <a:tblPr/>
              <a:tblGrid>
                <a:gridCol w="1857240"/>
                <a:gridCol w="5457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3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1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專案開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開發引擎維修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專案原型製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編輯器製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ta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測試版釋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初選交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決選展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小計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共歷時約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月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遊戲設定完成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%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，程式系統完成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2AA-1964-4E88-8808-16A6C49B86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風格特色及設計理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buClr>
                <a:srgbClr val="003366"/>
              </a:buClr>
              <a:buSzPct val="75000"/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新細明體"/>
              </a:rPr>
              <a:t>採歡樂風格，玩家在遊戲過程笑聲不斷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Times New Roman"/>
              </a:rPr>
              <a:t>操作簡單，適合各年齡層玩家參與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Times New Roman"/>
              </a:rPr>
              <a:t>玩法不只一種，讓遊戲進行時富變化性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Times New Roman"/>
              </a:rPr>
              <a:t>題材新穎，具歷史教育意義，寓教於娛樂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54864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  <a:ea typeface="標楷體"/>
              </a:rPr>
              <a:t>讓玩家在遊戲中感受到「樂趣」，是本小組設計此遊戲時所秉持的理念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937-321A-4E6B-8637-77D90777D7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遊戲背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80000" y="2398680"/>
            <a:ext cx="4970160" cy="425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73320" y="2637000"/>
            <a:ext cx="189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俠盜正傳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廖添丁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一款結合格鬥、射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與競速之動作遊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故事背景設定在清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末年，台灣被日本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治時期，玩家將扮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民間英雄廖添丁與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伙伴紅龜，打擊作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多端的日本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D43-F550-4BB3-905C-3AB4ACBC43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826920" y="2349360"/>
            <a:ext cx="8137800" cy="3768840"/>
            <a:chOff x="826920" y="2349360"/>
            <a:chExt cx="8137800" cy="37688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826920" y="2349360"/>
              <a:ext cx="4969080" cy="37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227640" y="2997360"/>
              <a:ext cx="2737080" cy="157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遊戲類型</a:t>
              </a:r>
              <a:r>
                <a:rPr b="1" lang="en-US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1.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橫向卷軸動作遊戲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3366"/>
                  </a:solidFill>
                  <a:latin typeface="Times New Roman"/>
                </a:rPr>
                <a:t>控制主角的移動與攻擊，將前來的敵人打倒，並與守關大頭目進行對決。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826920" y="2349360"/>
            <a:ext cx="8064720" cy="3694320"/>
            <a:chOff x="826920" y="2349360"/>
            <a:chExt cx="8064720" cy="369432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826920" y="2349360"/>
              <a:ext cx="496908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227640" y="3068640"/>
              <a:ext cx="2664000" cy="157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遊戲類型</a:t>
              </a:r>
              <a:r>
                <a:rPr b="1" lang="en-US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2.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射擊遊戲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3366"/>
                  </a:solidFill>
                  <a:latin typeface="Times New Roman"/>
                </a:rPr>
                <a:t>藉由控制準星，準確地擊倒敵人，並與守關大頭目進行對決。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68360" y="2384280"/>
            <a:ext cx="8423280" cy="4473720"/>
            <a:chOff x="468360" y="2384280"/>
            <a:chExt cx="8423280" cy="447372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2627280" y="4311720"/>
              <a:ext cx="3395520" cy="25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468360" y="2384280"/>
              <a:ext cx="345600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227640" y="3068640"/>
              <a:ext cx="2664000" cy="157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遊戲類型３</a:t>
              </a:r>
              <a:r>
                <a:rPr b="1" lang="en-US" sz="2400" spc="-1" strike="noStrike">
                  <a:solidFill>
                    <a:srgbClr val="003366"/>
                  </a:solidFill>
                  <a:latin typeface="標楷體"/>
                  <a:ea typeface="標楷體"/>
                </a:rPr>
                <a:t>.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競速遊戲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3366"/>
                  </a:solidFill>
                  <a:latin typeface="Times New Roman"/>
                </a:rPr>
                <a:t>一面控制車輛的進行方向與速度，一面擊退後方追擊敵人，將操作技巧與反應巧妙結合的遊戲類型。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遊戲介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1FA-4015-4CBA-A030-490C57F83239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3352680"/>
            <a:ext cx="761976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Verdana"/>
              </a:rPr>
              <a:t>開發環境及工具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PC Windows 98/2000/X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Visual C++ 6.0</a:t>
            </a:r>
            <a:r>
              <a:rPr b="0" lang="zh-TW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及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Visual Studio .Net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Borland C++ Builder 6.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OpenGL1.2</a:t>
            </a:r>
            <a:r>
              <a:rPr b="0" lang="zh-TW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函式庫及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OpenGL Exten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DirectX9.0</a:t>
            </a:r>
            <a:r>
              <a:rPr b="0" lang="zh-TW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函式庫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Python2.3</a:t>
            </a:r>
            <a:r>
              <a:rPr b="0" lang="zh-TW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函式庫</a:t>
            </a:r>
            <a:r>
              <a:rPr b="0" lang="zh-TW" sz="2000" spc="-1" strike="noStrike">
                <a:solidFill>
                  <a:srgbClr val="ff0000"/>
                </a:solidFill>
                <a:latin typeface="Verdana"/>
                <a:ea typeface="新細明體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Script System</a:t>
            </a:r>
            <a:r>
              <a:rPr b="0" lang="zh-TW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OpenAL1.0</a:t>
            </a:r>
            <a:r>
              <a:rPr b="0" lang="zh-TW" sz="2000" spc="-1" strike="noStrike">
                <a:solidFill>
                  <a:srgbClr val="003366"/>
                </a:solidFill>
                <a:latin typeface="Verdana"/>
                <a:ea typeface="新細明體"/>
              </a:rPr>
              <a:t>函式庫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程式技術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~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開發平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本遊戲</a:t>
            </a:r>
            <a:r>
              <a:rPr b="1" i="1" lang="zh-TW" sz="2800" spc="-1" strike="noStrike" u="sng">
                <a:solidFill>
                  <a:srgbClr val="ff0000"/>
                </a:solidFill>
                <a:uFillTx/>
                <a:latin typeface="Arial"/>
              </a:rPr>
              <a:t>完全是以</a:t>
            </a:r>
            <a:r>
              <a:rPr b="1" i="1" lang="zh-TW" sz="2800" spc="-1" strike="noStrike" u="sng">
                <a:solidFill>
                  <a:srgbClr val="ff0000"/>
                </a:solidFill>
                <a:uFillTx/>
                <a:latin typeface="Arial"/>
              </a:rPr>
              <a:t>自行研發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之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guyue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me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brary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為主要開發平台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90720" y="3200400"/>
            <a:ext cx="8001000" cy="3657600"/>
            <a:chOff x="990720" y="3200400"/>
            <a:chExt cx="8001000" cy="3657600"/>
          </a:xfrm>
        </p:grpSpPr>
        <p:sp>
          <p:nvSpPr>
            <p:cNvPr id="196" name=""/>
            <p:cNvSpPr/>
            <p:nvPr/>
          </p:nvSpPr>
          <p:spPr>
            <a:xfrm>
              <a:off x="4876920" y="3276720"/>
              <a:ext cx="4038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97" name="graphicComponet" descr=""/>
            <p:cNvPicPr/>
            <p:nvPr/>
          </p:nvPicPr>
          <p:blipFill>
            <a:blip r:embed="rId1"/>
            <a:stretch/>
          </p:blipFill>
          <p:spPr>
            <a:xfrm>
              <a:off x="990720" y="3257640"/>
              <a:ext cx="398124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onGraphicComponent" descr=""/>
            <p:cNvPicPr/>
            <p:nvPr/>
          </p:nvPicPr>
          <p:blipFill>
            <a:blip r:embed="rId2"/>
            <a:stretch/>
          </p:blipFill>
          <p:spPr>
            <a:xfrm>
              <a:off x="4952880" y="3586320"/>
              <a:ext cx="4038840" cy="32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362320" y="335268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cc9900"/>
                  </a:solidFill>
                  <a:latin typeface="新細明體"/>
                </a:rPr>
                <a:t>◎</a:t>
              </a:r>
              <a:r>
                <a:rPr b="0" lang="zh-TW" sz="2000" spc="-1" strike="noStrike">
                  <a:solidFill>
                    <a:srgbClr val="cc9900"/>
                  </a:solidFill>
                  <a:latin typeface="新細明體"/>
                </a:rPr>
                <a:t>繪圖處理部份</a:t>
              </a:r>
              <a:r>
                <a:rPr b="0" lang="zh-TW" sz="2000" spc="-1" strike="noStrike">
                  <a:solidFill>
                    <a:srgbClr val="cc99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8680" y="32004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cc9900"/>
                  </a:solidFill>
                  <a:latin typeface="新細明體"/>
                </a:rPr>
                <a:t>◎</a:t>
              </a:r>
              <a:r>
                <a:rPr b="0" lang="zh-TW" sz="2000" spc="-1" strike="noStrike">
                  <a:solidFill>
                    <a:srgbClr val="cc9900"/>
                  </a:solidFill>
                  <a:latin typeface="新細明體"/>
                </a:rPr>
                <a:t>非繪圖處理部份</a:t>
              </a:r>
              <a:r>
                <a:rPr b="0" lang="zh-TW" sz="20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429000" y="228600"/>
            <a:ext cx="4800600" cy="4648320"/>
          </a:xfrm>
          <a:prstGeom prst="wedgeRectCallout">
            <a:avLst>
              <a:gd name="adj1" fmla="val -54000"/>
              <a:gd name="adj2" fmla="val 66597"/>
            </a:avLst>
          </a:prstGeom>
          <a:solidFill>
            <a:srgbClr val="ccffcc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ff"/>
                </a:solidFill>
                <a:latin typeface="Times New Roman"/>
              </a:rPr>
              <a:t>引擎技術要點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prite in 2D , 3D , and Billbo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3DS MAX Converter/Loader/Ren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kin and Bone Ani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eyframe Ani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cene Manag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ctree and Frustum Cu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errain Following and Colli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ertex Arr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ky Eff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ight Ma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article Syst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Resource Pool ( new 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ction Map ( new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ens Flare ( new )… et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E2E-9C29-4257-A60B-F9839836654F}" type="slidenum">
              <a:t>8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程式技術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~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工具編輯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關卡編輯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CB6.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5760720" cy="4168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62120" y="396252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角色編輯器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CB6.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54864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S MAX Exporter Plug-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5833800" cy="4226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059280" y="2492280"/>
            <a:ext cx="5905440" cy="4229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3059280" y="2492280"/>
            <a:ext cx="5663880" cy="4079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2492280"/>
            <a:ext cx="5905440" cy="4267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9079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自行研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AA0-657B-40FD-A2C5-657F58767E1B}" type="slidenum">
              <a:t>9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1:47:19Z</dcterms:created>
  <dc:creator>newleaf</dc:creator>
  <dc:description/>
  <dc:language>en-US</dc:language>
  <cp:lastModifiedBy>Ned_Dark_D</cp:lastModifiedBy>
  <dcterms:modified xsi:type="dcterms:W3CDTF">2003-10-12T05:33:42Z</dcterms:modified>
  <cp:revision>99</cp:revision>
  <dc:subject/>
  <dc:title>第二屆中華盃遊戲軟體創作大賽 決賽簡報</dc:title>
</cp:coreProperties>
</file>