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A1F-D2E2-40E4-AE2A-1DC33D8B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83C3-0B92-4FA8-B693-6B629AFA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4C6-6247-43CC-8713-DC6CD50A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5A5-1679-4230-B590-AA77F942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74E2-7101-49AF-A879-1A9BC589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384A-7051-4741-9000-E5A7440A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7AAE-788F-4CFD-89A6-1818364C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E4CC-3495-4528-946C-2D48A970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1EEE-83BE-4D88-931A-1EC6D868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1063-1A6B-4724-9462-AD739929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9518-5B29-42B0-8523-4E992F1D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DB6-2284-4117-A6C5-7AC8EA4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0B23-2CF9-4FBD-81DA-A35A24D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432B-E1EB-4B24-AAA0-109B567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0E41-7238-44B9-8790-18F4B725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FC0-F883-43D5-A292-0D5AC5D9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2EE4-4DE6-4831-815C-B35AF21A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32E-5228-475A-B295-D5BA2C86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9DE-2439-47B5-9591-0AA8788A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CB5C-DB98-437D-AF07-DFD88FAB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470-7E16-46E0-9B66-9BDE247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88A-6634-4027-A158-92AAFA1C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673-AAC4-4ADD-A614-F22C0CC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20B7-46AC-4EC6-BDFF-929927B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281B-25AD-4FEF-8060-BD096F0F3D87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26B-B355-45DA-9AB0-63A368D8B1DF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口古月每週一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Gem2 3.1 Strategies for Optimizing AI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cc"/>
                </a:solidFill>
                <a:latin typeface="Arial"/>
              </a:rPr>
              <a:t>鄧志仁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2002.7.31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963720"/>
            <a:ext cx="86374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trategy 9 Use Emergent Behavior to Avoid Script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 it on-line , but using som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echnique to be natur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 : “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3.11 Flocking with Teeth : Predators and Pre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37120"/>
            <a:ext cx="863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trategy 10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ortize Query Costs with Continuous Bookkeepting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ata collecte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o make intelligent decision. If data gather when it needed , it will cost a lot of time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ion : continuously update a data structure with this data as it chang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law : Space to save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 : Influence map : 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</a:rPr>
              <a:t>”3.5 A High-Performance Tile-based Line-of-Sight and Search System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0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a200"/>
                </a:solidFill>
                <a:latin typeface="Arial"/>
              </a:rPr>
              <a:t>3.1 </a:t>
            </a:r>
            <a:r>
              <a:rPr b="0" lang="en-US" sz="2600" spc="-1" strike="noStrike">
                <a:solidFill>
                  <a:srgbClr val="00a200"/>
                </a:solidFill>
                <a:latin typeface="Arial"/>
              </a:rPr>
              <a:t>Strategie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3.2 3.3 Micro-Thread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3.4 RTS command architectur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a200"/>
                </a:solidFill>
                <a:latin typeface="Arial"/>
              </a:rPr>
              <a:t>3.5 3.6 Influence map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3.7 Strategic Assessment Tech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3.8 Terrain Reasoning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a200"/>
                </a:solidFill>
                <a:latin typeface="Arial"/>
              </a:rPr>
              <a:t>3.9 3.10 Point-of-Visibility path-finding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3.11 Flocking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3.12 3.13 Fuzzy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a200"/>
                </a:solidFill>
                <a:latin typeface="Arial"/>
              </a:rPr>
              <a:t>3.14 Neural Network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預告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.2 Micro-Threads for Game Object A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3.5 A High-Performance Tile-base Line-of-Sight and Search Sys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egy 1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vent-Drive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than Polling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: Arrow flying through a battlefie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en Arrow collision with Character =&gt; Charact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erform be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mag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en Arrow close Character =&gt; Character perfor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d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olling : Every Frame checking for any arrow around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nt-Driven : Let Arrow predict possible  target and inform Character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egy 2 Redundant Calculation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haring the resul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etween several AI ag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 : Pathfi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oup pathfi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egy 3 Virtual AI Manager Agen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virtual AI Manager above some AI agents to do some complex decision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 : SWA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ire enormous amount of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ter-memb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communication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irtual mean that it don’t have to represent on screen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nager can be merged to a new one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ategy 4 Run the AI Less Ofte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rely do AI agent. Delay it several frames , even a couple of secon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ing 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imer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callback architec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lem :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ynchronou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move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ion : random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415080"/>
            <a:ext cx="863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trategy 5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stribute the Processing over Several Fram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* usually the most dread algorithm using syste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ion :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ave the A* inner-result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nd resume it next frame 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ing Micro-thread : </a:t>
            </a:r>
            <a:r>
              <a:rPr b="0" i="1" lang="en-US" sz="2200" spc="-1" strike="noStrike">
                <a:solidFill>
                  <a:srgbClr val="ffffcc"/>
                </a:solidFill>
                <a:latin typeface="Arial"/>
              </a:rPr>
              <a:t>“3.3 Managing AI with Micro-Threads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egy 6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vel-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f-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tail AI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ary the processing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an agent by how close it is to the camera , player , ac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ary the complexity of an agent’s algorithm based o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leva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 not precise fathfinding off-screen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esent multiple agents in the single simulation algorithm as it is no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to play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egy 7 </a:t>
            </a:r>
            <a:r>
              <a:rPr b="0" lang="zh-TW" sz="4000" spc="-1" strike="noStrike">
                <a:solidFill>
                  <a:srgbClr val="ffcc00"/>
                </a:solidFill>
                <a:latin typeface="Arial"/>
              </a:rPr>
              <a:t>同 </a:t>
            </a:r>
            <a:r>
              <a:rPr b="0" lang="zh-TW" sz="4000" spc="-1" strike="noStrike">
                <a:solidFill>
                  <a:srgbClr val="ffcc00"/>
                </a:solidFill>
                <a:latin typeface="Arial"/>
              </a:rPr>
              <a:t>4 </a:t>
            </a:r>
            <a:r>
              <a:rPr b="0" lang="zh-TW" sz="4000" spc="-1" strike="noStrike">
                <a:solidFill>
                  <a:srgbClr val="ffcc00"/>
                </a:solidFill>
                <a:latin typeface="Arial"/>
              </a:rPr>
              <a:t>故省略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trategy 8 Do It Offline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ld trick….”Cos Table” : using space chang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 : BSP , pre-analyzed terrain or 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3.8 Terrain Reasoning for 3D Action Gam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3.9 Expanded Geometry for Points-of-Visibility Pathfindi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cc"/>
                </a:solidFill>
                <a:latin typeface="Arial"/>
              </a:rPr>
              <a:t>3.14 Using a Neural Network in a Game : A concrete Exampl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6:57:36Z</dcterms:created>
  <dc:creator>Ned_Dark_D</dc:creator>
  <dc:description/>
  <dc:language>en-US</dc:language>
  <cp:lastModifiedBy>Ned_Dark_D</cp:lastModifiedBy>
  <dcterms:modified xsi:type="dcterms:W3CDTF">2002-07-31T10:40:40Z</dcterms:modified>
  <cp:revision>13</cp:revision>
  <dc:subject/>
  <dc:title>口古月每週一報</dc:title>
</cp:coreProperties>
</file>