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A86D-798B-4912-838A-FE46ADC92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1066-D381-4222-A44C-1C43E46E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2604-6E59-412D-863B-80903303E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2F05-A991-474C-A566-86BF63AAE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40C5-3DC6-4CCE-B2D7-607427BA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C07D-F855-4CA2-9FC2-39EC6CE4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8179-8C45-4918-B9A3-663BB355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51AF-A862-48DD-9A9F-03860C88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512A-A0EA-4779-9CDA-F9D81E62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4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1FB8-519A-4BA6-8CCA-C7C02F0C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D2E4-6295-4C88-AC3B-CA64F166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D893-62C3-42AA-8327-BEC44730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6FAE-B665-4398-BAED-C24898AD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ECEE-F3B7-4BBC-945E-796CB76E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E6A8-C9FA-492D-9B09-8E138CEC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9FC7-C7DD-46D1-AAAF-8C5E837FC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D3F0-6BC2-44D6-8729-4DFA965F9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520A-DF2B-4C48-83D7-795FBB71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7939-03DF-4F73-9E34-6265ED8C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EEFD-A532-4704-8F3A-C5D483A5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4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AE10-1550-4C33-BD10-FEC37FEE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6389-7294-4E58-986A-7053A368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B87E-3C9A-4592-9D73-E07D4F1E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1C92-2E24-48DA-850A-5839A490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B877-1544-4EBC-A9FA-FFA6679171D0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12085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36B9-CE8F-4A56-99EB-6FF6977DD3E4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1881360"/>
            <a:ext cx="77724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口古月每週一報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71080" y="3124080"/>
            <a:ext cx="637236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em2</a:t>
            </a:r>
            <a:r>
              <a:rPr b="0" lang="zh-TW" sz="2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Arial Black"/>
              </a:rPr>
              <a:t>4.11 </a:t>
            </a: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Classic Super Mario 64 Third-Person Control and animation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2002.4.19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Arial Black"/>
              </a:rPr>
              <a:t>鄧志仁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Animation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en character’s speed = 0 =&gt;STAND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peed &gt; 0 =&gt; RU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rick1 : </a:t>
            </a:r>
            <a:r>
              <a:rPr b="0" lang="en-US" sz="3200" spc="-1" strike="noStrike">
                <a:solidFill>
                  <a:srgbClr val="ff532b"/>
                </a:solidFill>
                <a:latin typeface="Arial Black"/>
              </a:rPr>
              <a:t>Adjust Animation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with Character’s Top Speed .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t top speed the feet should </a:t>
            </a:r>
            <a:r>
              <a:rPr b="0" lang="en-US" sz="2800" spc="-1" strike="noStrike">
                <a:solidFill>
                  <a:srgbClr val="ff532b"/>
                </a:solidFill>
                <a:latin typeface="Arial Black"/>
              </a:rPr>
              <a:t>stick to the grou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when the other is up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Animation(cont.)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rick2 : speed of animation </a:t>
            </a:r>
            <a:r>
              <a:rPr b="0" lang="en-US" sz="2800" spc="-1" strike="noStrike">
                <a:solidFill>
                  <a:srgbClr val="ff532b"/>
                </a:solidFill>
                <a:latin typeface="Arial Black"/>
              </a:rPr>
              <a:t>change whe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the speed of character change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un = 5-8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rot = 3-5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alk = 1-3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rick3 : when high speed , turn will be lea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rick4 : between the Run and walk animation , use program to catch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Animation(cont.)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rick5 : unknown……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rick6 : prepare two </a:t>
            </a:r>
            <a:r>
              <a:rPr b="0" lang="en-US" sz="2800" spc="-1" strike="noStrike">
                <a:solidFill>
                  <a:srgbClr val="ff3300"/>
                </a:solidFill>
                <a:latin typeface="Arial Black"/>
              </a:rPr>
              <a:t>Run-to-Stand animatio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for user may stop running in two feet up , so whenever the run loop being in which half of the loop , it can catch the Run-to-Stand animation quickly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Mario 64 animation lis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Stand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Stand to Tip-toe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Stand to Tro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Stand to Run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Trot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Run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Lean effec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Run to 180 turn : skid to stop and face to 180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Fast Run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Very Lean effec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24357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 Black"/>
              </a:rPr>
              <a:t>See the program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Arial Black"/>
              </a:rPr>
              <a:t>and discuss …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onten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 Black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d-Person Situati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ontrol to Mov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otate the Character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ranslating the Character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nimati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Arial Black"/>
              </a:rPr>
              <a:t>3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rd-Person Situation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1828800"/>
            <a:ext cx="762012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the character go from STAND to RUN, camera accelerate smoothly to catch up the character and </a:t>
            </a:r>
            <a:r>
              <a:rPr b="0" lang="en-US" sz="2800" spc="-1" strike="noStrike">
                <a:solidFill>
                  <a:srgbClr val="ff532b"/>
                </a:solidFill>
                <a:latin typeface="Times New Roman"/>
              </a:rPr>
              <a:t>maintain a distance from hi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the character try to turn camera gently circles to </a:t>
            </a:r>
            <a:r>
              <a:rPr b="0" lang="en-US" sz="2800" spc="-1" strike="noStrike">
                <a:solidFill>
                  <a:srgbClr val="ff532b"/>
                </a:solidFill>
                <a:latin typeface="Times New Roman"/>
              </a:rPr>
              <a:t>behind the charac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Up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=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player move </a:t>
            </a:r>
            <a:r>
              <a:rPr b="0" lang="en-US" sz="2200" spc="-1" strike="noStrike">
                <a:solidFill>
                  <a:srgbClr val="ff532b"/>
                </a:solidFill>
                <a:latin typeface="Times New Roman"/>
                <a:ea typeface="新細明體"/>
              </a:rPr>
              <a:t>away from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camer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Down = player move </a:t>
            </a:r>
            <a:r>
              <a:rPr b="0" lang="en-US" sz="2200" spc="-1" strike="noStrike">
                <a:solidFill>
                  <a:srgbClr val="ff532b"/>
                </a:solidFill>
                <a:latin typeface="Times New Roman"/>
                <a:ea typeface="新細明體"/>
              </a:rPr>
              <a:t>closer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to camer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Left = player move </a:t>
            </a:r>
            <a:r>
              <a:rPr b="0" lang="en-US" sz="2200" spc="-1" strike="noStrike">
                <a:solidFill>
                  <a:srgbClr val="ff532b"/>
                </a:solidFill>
                <a:latin typeface="Times New Roman"/>
                <a:ea typeface="新細明體"/>
              </a:rPr>
              <a:t>leftwar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Right = player move </a:t>
            </a:r>
            <a:r>
              <a:rPr b="0" lang="en-US" sz="2200" spc="-1" strike="noStrike">
                <a:solidFill>
                  <a:srgbClr val="ff532b"/>
                </a:solidFill>
                <a:latin typeface="Times New Roman"/>
                <a:ea typeface="新細明體"/>
              </a:rPr>
              <a:t>rightwar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the Up Down Left Right is the </a:t>
            </a:r>
            <a:r>
              <a:rPr b="0" lang="en-US" sz="2800" spc="-1" strike="noStrike">
                <a:solidFill>
                  <a:srgbClr val="ff532b"/>
                </a:solidFill>
                <a:latin typeface="Times New Roman"/>
              </a:rPr>
              <a:t>LOCAL coordin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the Cam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ontrol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onvert the Camera to the World coordinate , Because </a:t>
            </a:r>
            <a:r>
              <a:rPr b="0" lang="en-US" sz="3200" spc="-1" strike="noStrike">
                <a:solidFill>
                  <a:srgbClr val="ff532b"/>
                </a:solidFill>
                <a:latin typeface="Arial Black"/>
              </a:rPr>
              <a:t>when the Camera FACE different , the Right is different 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371960" y="4952880"/>
            <a:ext cx="1369800" cy="993960"/>
            <a:chOff x="1371960" y="4952880"/>
            <a:chExt cx="1369800" cy="993960"/>
          </a:xfrm>
        </p:grpSpPr>
        <p:grpSp>
          <p:nvGrpSpPr>
            <p:cNvPr id="140" name=""/>
            <p:cNvGrpSpPr/>
            <p:nvPr/>
          </p:nvGrpSpPr>
          <p:grpSpPr>
            <a:xfrm>
              <a:off x="1371960" y="4952880"/>
              <a:ext cx="1066680" cy="609840"/>
              <a:chOff x="1371960" y="4952880"/>
              <a:chExt cx="1066680" cy="609840"/>
            </a:xfrm>
          </p:grpSpPr>
          <p:sp>
            <p:nvSpPr>
              <p:cNvPr id="141" name=""/>
              <p:cNvSpPr/>
              <p:nvPr/>
            </p:nvSpPr>
            <p:spPr>
              <a:xfrm>
                <a:off x="1371960" y="4952880"/>
                <a:ext cx="838440" cy="60984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5400000">
                <a:off x="2133720" y="5181480"/>
                <a:ext cx="380880" cy="228600"/>
              </a:xfrm>
              <a:custGeom>
                <a:avLst/>
                <a:gdLst>
                  <a:gd name="textAreaLeft" fmla="*/ 83520 w 380880"/>
                  <a:gd name="textAreaRight" fmla="*/ 297360 w 380880"/>
                  <a:gd name="textAreaTop" fmla="*/ 50040 h 228600"/>
                  <a:gd name="textAreaBottom" fmla="*/ 1785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99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 flipH="1">
              <a:off x="2740320" y="5411880"/>
              <a:ext cx="1440" cy="534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743200" y="6095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(0,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4800600"/>
            <a:ext cx="1066680" cy="990720"/>
          </a:xfrm>
          <a:prstGeom prst="ellipse">
            <a:avLst/>
          </a:prstGeom>
          <a:solidFill>
            <a:srgbClr val="0019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031000" y="5622120"/>
            <a:ext cx="1670400" cy="1077480"/>
            <a:chOff x="5031000" y="5622120"/>
            <a:chExt cx="1670400" cy="1077480"/>
          </a:xfrm>
        </p:grpSpPr>
        <p:grpSp>
          <p:nvGrpSpPr>
            <p:cNvPr id="147" name=""/>
            <p:cNvGrpSpPr/>
            <p:nvPr/>
          </p:nvGrpSpPr>
          <p:grpSpPr>
            <a:xfrm>
              <a:off x="5031000" y="5622120"/>
              <a:ext cx="1131480" cy="1077480"/>
              <a:chOff x="5031000" y="5622120"/>
              <a:chExt cx="1131480" cy="1077480"/>
            </a:xfrm>
          </p:grpSpPr>
          <p:sp>
            <p:nvSpPr>
              <p:cNvPr id="148" name=""/>
              <p:cNvSpPr/>
              <p:nvPr/>
            </p:nvSpPr>
            <p:spPr>
              <a:xfrm rot="18900000">
                <a:off x="5123520" y="5882400"/>
                <a:ext cx="838440" cy="60984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700000">
                <a:off x="5756400" y="5723280"/>
                <a:ext cx="380880" cy="228600"/>
              </a:xfrm>
              <a:custGeom>
                <a:avLst/>
                <a:gdLst>
                  <a:gd name="textAreaLeft" fmla="*/ 83520 w 380880"/>
                  <a:gd name="textAreaRight" fmla="*/ 297360 w 380880"/>
                  <a:gd name="textAreaTop" fmla="*/ 50040 h 228600"/>
                  <a:gd name="textAreaBottom" fmla="*/ 1785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99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6324120" y="5624280"/>
              <a:ext cx="377280" cy="379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324480" y="4724280"/>
            <a:ext cx="1067040" cy="990720"/>
          </a:xfrm>
          <a:prstGeom prst="ellipse">
            <a:avLst/>
          </a:prstGeom>
          <a:solidFill>
            <a:srgbClr val="0019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05720" y="6019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(1,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229600" y="38098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4419720"/>
            <a:ext cx="838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ontrol(cont.)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f the Camera roll , just seen it </a:t>
            </a:r>
            <a:r>
              <a:rPr b="0" lang="en-US" sz="3200" spc="-1" strike="noStrike">
                <a:solidFill>
                  <a:srgbClr val="ff532b"/>
                </a:solidFill>
                <a:latin typeface="Arial Black"/>
              </a:rPr>
              <a:t>droping y dimenti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ontrol input have four arrow or a circle , even pressure concer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676520" y="4800600"/>
            <a:ext cx="1447560" cy="1219320"/>
            <a:chOff x="1676520" y="4800600"/>
            <a:chExt cx="1447560" cy="1219320"/>
          </a:xfrm>
        </p:grpSpPr>
        <p:sp>
          <p:nvSpPr>
            <p:cNvPr id="158" name=""/>
            <p:cNvSpPr/>
            <p:nvPr/>
          </p:nvSpPr>
          <p:spPr>
            <a:xfrm>
              <a:off x="1676520" y="5410080"/>
              <a:ext cx="1447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438280" y="4800600"/>
              <a:ext cx="0" cy="1219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219320" y="5943600"/>
            <a:ext cx="251460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4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put 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1,0) (-1,0) (0,1) (0,-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343400" y="5181480"/>
            <a:ext cx="1676160" cy="1371600"/>
            <a:chOff x="4343400" y="5181480"/>
            <a:chExt cx="1676160" cy="1371600"/>
          </a:xfrm>
        </p:grpSpPr>
        <p:sp>
          <p:nvSpPr>
            <p:cNvPr id="162" name=""/>
            <p:cNvSpPr/>
            <p:nvPr/>
          </p:nvSpPr>
          <p:spPr>
            <a:xfrm>
              <a:off x="4343400" y="5181480"/>
              <a:ext cx="1676160" cy="1371600"/>
            </a:xfrm>
            <a:prstGeom prst="ellipse">
              <a:avLst/>
            </a:prstGeom>
            <a:solidFill>
              <a:srgbClr val="001932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19360" y="5867280"/>
              <a:ext cx="1447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81480" y="5257800"/>
              <a:ext cx="0" cy="1218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352680" y="419112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put : any normalized vector( 0.5 , 0.866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34320" y="4648320"/>
            <a:ext cx="152388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10280" y="5334120"/>
            <a:ext cx="14479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772400" y="47242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800600"/>
            <a:ext cx="1143000" cy="990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391520" y="4952880"/>
            <a:ext cx="761760" cy="685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29400" y="6156360"/>
            <a:ext cx="251460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put : any ve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輕壓右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( 0.1 , 0.0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ontrol(cont.)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 Black"/>
              </a:rPr>
              <a:t>InputLtRt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(range –1 ~ +1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 Black"/>
              </a:rPr>
              <a:t>InputUpD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(range –1 ~ +1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 Black"/>
              </a:rPr>
              <a:t>Right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(of camera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 Black"/>
              </a:rPr>
              <a:t>Forwar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(of camera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World.x = </a:t>
            </a:r>
            <a:r>
              <a:rPr b="0" lang="en-US" sz="1800" spc="-1" strike="noStrike">
                <a:solidFill>
                  <a:srgbClr val="99ccff"/>
                </a:solidFill>
                <a:latin typeface="Arial Black"/>
              </a:rPr>
              <a:t>InputLtRt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* </a:t>
            </a:r>
            <a:r>
              <a:rPr b="0" lang="en-US" sz="1800" spc="-1" strike="noStrike">
                <a:solidFill>
                  <a:srgbClr val="008000"/>
                </a:solidFill>
                <a:latin typeface="Arial Black"/>
              </a:rPr>
              <a:t>Right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.x + </a:t>
            </a:r>
            <a:r>
              <a:rPr b="0" lang="en-US" sz="1800" spc="-1" strike="noStrike">
                <a:solidFill>
                  <a:srgbClr val="99ccff"/>
                </a:solidFill>
                <a:latin typeface="Arial Black"/>
              </a:rPr>
              <a:t>InputUpDn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* </a:t>
            </a:r>
            <a:r>
              <a:rPr b="0" lang="en-US" sz="1800" spc="-1" strike="noStrike">
                <a:solidFill>
                  <a:srgbClr val="008000"/>
                </a:solidFill>
                <a:latin typeface="Arial Black"/>
              </a:rPr>
              <a:t>Forward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.x 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World.z = </a:t>
            </a:r>
            <a:r>
              <a:rPr b="0" lang="en-US" sz="1800" spc="-1" strike="noStrike">
                <a:solidFill>
                  <a:srgbClr val="99ccff"/>
                </a:solidFill>
                <a:latin typeface="Arial Black"/>
              </a:rPr>
              <a:t>InputLtRt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* </a:t>
            </a:r>
            <a:r>
              <a:rPr b="0" lang="en-US" sz="1800" spc="-1" strike="noStrike">
                <a:solidFill>
                  <a:srgbClr val="008000"/>
                </a:solidFill>
                <a:latin typeface="Arial Black"/>
              </a:rPr>
              <a:t>Right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.z + </a:t>
            </a:r>
            <a:r>
              <a:rPr b="0" lang="en-US" sz="1800" spc="-1" strike="noStrike">
                <a:solidFill>
                  <a:srgbClr val="99ccff"/>
                </a:solidFill>
                <a:latin typeface="Arial Black"/>
              </a:rPr>
              <a:t>InputUpDn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* </a:t>
            </a:r>
            <a:r>
              <a:rPr b="0" lang="en-US" sz="1800" spc="-1" strike="noStrike">
                <a:solidFill>
                  <a:srgbClr val="008000"/>
                </a:solidFill>
                <a:latin typeface="Arial Black"/>
              </a:rPr>
              <a:t>Forward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.z 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World.y = 0 ;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World is the vector where the Player should move to </a:t>
            </a: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(remember to normalize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Rotate the Character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</a:t>
            </a:r>
            <a:r>
              <a:rPr b="0" lang="en-US" sz="2800" spc="-1" strike="noStrike">
                <a:solidFill>
                  <a:srgbClr val="ff532b"/>
                </a:solidFill>
                <a:latin typeface="Arial Black"/>
              </a:rPr>
              <a:t>Character directio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should converge on the </a:t>
            </a:r>
            <a:r>
              <a:rPr b="0" lang="en-US" sz="2800" spc="-1" strike="noStrike">
                <a:solidFill>
                  <a:srgbClr val="ff532b"/>
                </a:solidFill>
                <a:latin typeface="Arial Black"/>
              </a:rPr>
              <a:t>user’s desired directio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ut Dampening is necessary preventing from too quickly turn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ne </a:t>
            </a:r>
            <a:r>
              <a:rPr b="0" lang="en-US" sz="2800" spc="-1" strike="noStrike">
                <a:solidFill>
                  <a:srgbClr val="ff532b"/>
                </a:solidFill>
                <a:latin typeface="Arial Black"/>
              </a:rPr>
              <a:t>Dampening metho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is to add the Character direction slowly by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ew = </a:t>
            </a:r>
            <a:r>
              <a:rPr b="0" lang="en-US" sz="2400" spc="-1" strike="noStrike">
                <a:solidFill>
                  <a:srgbClr val="99ccff"/>
                </a:solidFill>
                <a:latin typeface="Arial Black"/>
              </a:rPr>
              <a:t>Char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* 0.5 + </a:t>
            </a:r>
            <a:r>
              <a:rPr b="0" lang="en-US" sz="2400" spc="-1" strike="noStrike">
                <a:solidFill>
                  <a:srgbClr val="99ccff"/>
                </a:solidFill>
                <a:latin typeface="Arial Black"/>
              </a:rPr>
              <a:t>Desire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* 0.5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ormalize( New 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6" name="427" descr=""/>
          <p:cNvPicPr/>
          <p:nvPr/>
        </p:nvPicPr>
        <p:blipFill>
          <a:blip r:embed="rId1"/>
          <a:stretch/>
        </p:blipFill>
        <p:spPr>
          <a:xfrm>
            <a:off x="1066680" y="1892160"/>
            <a:ext cx="685800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872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Rotate the Character(cont.)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oncern about the Frame Rat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ew = </a:t>
            </a:r>
            <a:r>
              <a:rPr b="0" lang="en-US" sz="2000" spc="-1" strike="noStrike">
                <a:solidFill>
                  <a:srgbClr val="99ccff"/>
                </a:solidFill>
                <a:latin typeface="Arial Black"/>
              </a:rPr>
              <a:t>Char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* old_factor + </a:t>
            </a:r>
            <a:r>
              <a:rPr b="0" lang="en-US" sz="2000" spc="-1" strike="noStrike">
                <a:solidFill>
                  <a:srgbClr val="99ccff"/>
                </a:solidFill>
                <a:latin typeface="Arial Black"/>
              </a:rPr>
              <a:t>Desire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* new_factor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ew_factor = 0.9 / </a:t>
            </a:r>
            <a:r>
              <a:rPr b="0" lang="en-US" sz="2000" spc="-1" strike="noStrike">
                <a:solidFill>
                  <a:srgbClr val="ff3300"/>
                </a:solidFill>
                <a:latin typeface="Arial Black"/>
              </a:rPr>
              <a:t>FP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ld_factor = 1.0 - new_factor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 Black"/>
              </a:rPr>
              <a:t>Rotate the Player 90 percent after a seco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large angle to turn may result in extended rotation . Use animation to suppor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872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Translating the Character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Using some kind of dampening to control </a:t>
            </a:r>
            <a:r>
              <a:rPr b="0" lang="en-US" sz="3200" spc="-1" strike="noStrike">
                <a:solidFill>
                  <a:srgbClr val="ff532b"/>
                </a:solidFill>
                <a:latin typeface="Arial Black"/>
              </a:rPr>
              <a:t>Speed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532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32b"/>
                </a:solidFill>
                <a:latin typeface="Arial Black"/>
              </a:rPr>
              <a:t>Response is needed and no needed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81" name="429" descr=""/>
          <p:cNvPicPr/>
          <p:nvPr/>
        </p:nvPicPr>
        <p:blipFill>
          <a:blip r:embed="rId1"/>
          <a:stretch/>
        </p:blipFill>
        <p:spPr>
          <a:xfrm>
            <a:off x="1371600" y="4191120"/>
            <a:ext cx="647712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16:43:38Z</dcterms:created>
  <dc:creator>Ned_Dark_D</dc:creator>
  <dc:description/>
  <dc:language>en-US</dc:language>
  <cp:lastModifiedBy>Ned_Dark_D</cp:lastModifiedBy>
  <dcterms:modified xsi:type="dcterms:W3CDTF">2002-05-10T04:54:30Z</dcterms:modified>
  <cp:revision>4</cp:revision>
  <dc:subject/>
  <dc:title>口古月每週一報</dc:title>
</cp:coreProperties>
</file>