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5FDB-2C85-46C3-AF62-3E25E6AA2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66EC-F36C-4C16-93CB-435820E8F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6EE0-8CCA-43F3-8EEB-66CFD1745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1B2B-4148-44F3-A782-0BB2B32C6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B1AC2-64A3-4687-80DB-FCB4E1A42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04E26-2937-4560-8F5F-01CE07AF8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B375A-3C8A-48F1-BB3E-CCC9C94A4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2E182-B7A4-49AD-93B3-21A5008B9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DAC59-CA83-4E61-9700-10C195FAD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1E605-835E-4621-8585-BE19B3A88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41B5C-CBEE-408A-AB48-5B9646ECA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D13A-F561-4700-AC6B-317A3F370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78687-CA6B-411D-85D0-D104BD102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50675-3BDC-4D87-8026-6027EF944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1BCD5-ED65-4CC4-9940-0E8069264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67EF3-044F-4827-92E6-9E86195EB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BBCE4-8EC3-4779-9DA2-F70BDDB69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5E92-BAD5-4DD0-AFB1-2F96EDE29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7A38-9666-4F68-A834-EB55FF79D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3347-2915-448F-8312-FB5548DCD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FE50-19DD-40A9-8FB5-DECD748E6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2491-F7A4-4D43-8C4D-7BC9C57F8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6F33-327C-4740-9963-29988C7DD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5589-C701-4FFA-BA9C-4AC9446D3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46363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46363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404A9-7A2D-4470-8603-2784D0704FE2}" type="slidenum">
              <a:rPr b="0" lang="zh-TW" sz="1400" spc="-1" strike="noStrike">
                <a:solidFill>
                  <a:srgbClr val="46363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logo" descr=""/>
          <p:cNvPicPr/>
          <p:nvPr/>
        </p:nvPicPr>
        <p:blipFill>
          <a:blip r:embed="rId3"/>
          <a:stretch/>
        </p:blipFill>
        <p:spPr>
          <a:xfrm>
            <a:off x="0" y="6045120"/>
            <a:ext cx="812880" cy="812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46363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46363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BCA90-B2D9-44CD-825B-17CE5E11C1CC}" type="slidenum">
              <a:rPr b="0" lang="zh-TW" sz="1400" spc="-1" strike="noStrike">
                <a:solidFill>
                  <a:srgbClr val="46363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logo" descr=""/>
          <p:cNvPicPr/>
          <p:nvPr/>
        </p:nvPicPr>
        <p:blipFill>
          <a:blip r:embed="rId3"/>
          <a:stretch/>
        </p:blipFill>
        <p:spPr>
          <a:xfrm>
            <a:off x="228600" y="533520"/>
            <a:ext cx="812880" cy="8125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463634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63634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4400" spc="-1" strike="noStrike">
                <a:solidFill>
                  <a:srgbClr val="795241"/>
                </a:solidFill>
                <a:latin typeface="Times New Roman"/>
              </a:rPr>
              <a:t>口古月每週一報</a:t>
            </a:r>
            <a:br>
              <a:rPr sz="4400"/>
            </a:b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Game Program&lt;Gems&gt;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3634"/>
                </a:solidFill>
                <a:latin typeface="Times New Roman"/>
              </a:rPr>
              <a:t>1.11 A Network Protocol for Online Games </a:t>
            </a:r>
            <a:endParaRPr b="0" lang="en-US" sz="2700" spc="-1" strike="noStrike">
              <a:solidFill>
                <a:srgbClr val="463634"/>
              </a:solidFill>
              <a:latin typeface="Times New Roman"/>
            </a:endParaRPr>
          </a:p>
          <a:p>
            <a:pPr indent="0" algn="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3634"/>
                </a:solidFill>
                <a:latin typeface="Times New Roman"/>
              </a:rPr>
              <a:t>Ned.Dark.D</a:t>
            </a:r>
            <a:endParaRPr b="0" lang="en-US" sz="2700" spc="-1" strike="noStrike">
              <a:solidFill>
                <a:srgbClr val="463634"/>
              </a:solidFill>
              <a:latin typeface="Times New Roman"/>
            </a:endParaRPr>
          </a:p>
          <a:p>
            <a:pPr indent="0" algn="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3634"/>
                </a:solidFill>
                <a:latin typeface="Times New Roman"/>
              </a:rPr>
              <a:t>2002.3.29</a:t>
            </a:r>
            <a:endParaRPr b="0" lang="en-US" sz="27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Harden the Reverse Engineer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Remove symbols and debugging information from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code released to the public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Don’t isolate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ncryption </a:t>
            </a: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and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 decryption</a:t>
            </a: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 in functions. Instead , combine with some other network code.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Initialization seeds at run time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Hard encryption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in every version</a:t>
            </a: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, even betas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++ Implement Clue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++ class SecureTransport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When debug, let junk data as constant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Goal is to make cheat expensive , not impossible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4400" spc="-1" strike="noStrike">
                <a:solidFill>
                  <a:srgbClr val="795241"/>
                </a:solidFill>
                <a:latin typeface="Times New Roman"/>
              </a:rPr>
              <a:t>預告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463634"/>
                </a:solidFill>
                <a:latin typeface="Times New Roman"/>
              </a:rPr>
              <a:t>3.4 </a:t>
            </a: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A* Aesthetic Optimization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or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4.6 Real-Time Realistic Terrain Generation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05320" y="6172200"/>
            <a:ext cx="44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ttention! End of Power Point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Definition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Protocol design : one or more untrusted clients communicate with a trusted central server.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Client maintains the game state and verifies all client commands.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Packet ( reliable TCP or unreliable UDP ) only transfer between client and server .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Format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Header : administrative information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Payload : actual data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Any modifications to the sender’s sequence of payloads should be detected .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Packet Tampering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5812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Hackers’ casual :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Defense :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962520" y="1828800"/>
            <a:ext cx="3504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Times New Roman"/>
              </a:rPr>
              <a:t>Change bytes in packet and see what happens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2666880"/>
            <a:ext cx="487656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9900"/>
                </a:solidFill>
                <a:latin typeface="Times New Roman"/>
              </a:rPr>
              <a:t>Checksum :</a:t>
            </a:r>
            <a:r>
              <a:rPr b="0" lang="en-US" sz="25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463634"/>
                </a:solidFill>
                <a:latin typeface="Times New Roman"/>
              </a:rPr>
              <a:t>a short number produced by combining every byte of the packet</a:t>
            </a:r>
            <a:endParaRPr b="0" lang="en-US" sz="25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38080" y="4267080"/>
            <a:ext cx="3810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9900"/>
                </a:solidFill>
                <a:latin typeface="Times New Roman"/>
              </a:rPr>
              <a:t>A perfect checksum : detect any change bytes </a:t>
            </a:r>
            <a:endParaRPr b="0" lang="en-US" sz="25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267080" y="4800600"/>
            <a:ext cx="838440" cy="0"/>
          </a:xfrm>
          <a:prstGeom prst="line">
            <a:avLst/>
          </a:prstGeom>
          <a:ln w="38160">
            <a:solidFill>
              <a:srgbClr val="463634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181480" y="4572000"/>
            <a:ext cx="266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9900"/>
                </a:solidFill>
                <a:latin typeface="Times New Roman"/>
              </a:rPr>
              <a:t>Too long to use</a:t>
            </a:r>
            <a:endParaRPr b="0" lang="en-US" sz="25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95241"/>
                </a:solidFill>
                <a:latin typeface="Times New Roman"/>
              </a:rPr>
              <a:t>Checksum Weakness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Attacker reverse the engineer the checksum algorithm and then compute valid checksums for any message.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apture valid packers and resend then later----- Packet Replay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Packet Replay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apture a packet from the client , and send it multiple times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To perform commands faster than game follow.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Timer on server? May let legal player as a cheater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14600" y="3581280"/>
            <a:ext cx="51814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新細明體"/>
              </a:rPr>
              <a:t>Like UO Example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新細明體"/>
              <a:ea typeface="新細明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Better way to defend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Use a state machine to produce successive identifying numbers for successive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Linear congruential random number generator : state =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(state+a) *b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nder and Recipient each keep one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Two problem :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463634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How initially synchronize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463634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How to keep synchronize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Better way to defend</a:t>
            </a:r>
            <a:br>
              <a:rPr sz="4400"/>
            </a:b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ont.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463634"/>
                </a:solidFill>
                <a:latin typeface="Times New Roman"/>
              </a:rPr>
              <a:t>Init problem</a:t>
            </a:r>
            <a:endParaRPr b="0" lang="en-US" sz="25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63634"/>
                </a:solidFill>
                <a:latin typeface="Times New Roman"/>
              </a:rPr>
              <a:t>Each start the same fix seed state machine</a:t>
            </a:r>
            <a:endParaRPr b="0" lang="en-US" sz="25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63634"/>
                </a:solidFill>
                <a:latin typeface="Times New Roman"/>
              </a:rPr>
              <a:t>Server Detect Packet and decide Client’s state .</a:t>
            </a:r>
            <a:endParaRPr b="0" lang="en-US" sz="25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463634"/>
                </a:solidFill>
                <a:latin typeface="Times New Roman"/>
              </a:rPr>
              <a:t>Keep problem</a:t>
            </a:r>
            <a:endParaRPr b="0" lang="en-US" sz="25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63634"/>
                </a:solidFill>
                <a:latin typeface="Times New Roman"/>
              </a:rPr>
              <a:t>When dropped , sender may faster then receiver . Some legal may be rejected</a:t>
            </a:r>
            <a:endParaRPr b="0" lang="en-US" sz="25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63634"/>
                </a:solidFill>
                <a:latin typeface="Times New Roman"/>
              </a:rPr>
              <a:t>Rely a sequence number sent with each packet</a:t>
            </a:r>
            <a:endParaRPr b="0" lang="en-US" sz="25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63634"/>
                </a:solidFill>
                <a:latin typeface="Times New Roman"/>
              </a:rPr>
              <a:t>Receiver can skip some state to catch up sender</a:t>
            </a:r>
            <a:endParaRPr b="0" lang="en-US" sz="25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Additional Techniques ~Coded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Ideal : Two packets with identical payloads should show as little correlation in their bit patterns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Remove all correlation between two sets of data is to combine then with a sequence random number (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XOR</a:t>
            </a: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) according the state machine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Additional Techniques ~Lengthen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Purpose : two identical packet will have the same length , and be detect by attacter .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Add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junk data</a:t>
            </a: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 to the packet according to state machine .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Don’t let junk data too big in case it stun the network .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9T01:49:53Z</dcterms:created>
  <dc:creator>Ned_Dark_D</dc:creator>
  <dc:description/>
  <dc:language>en-US</dc:language>
  <cp:lastModifiedBy>Ned_Dark_D</cp:lastModifiedBy>
  <dcterms:modified xsi:type="dcterms:W3CDTF">2002-03-29T03:18:12Z</dcterms:modified>
  <cp:revision>2</cp:revision>
  <dc:subject/>
  <dc:title>口古月每週一報 Game Program&lt;Gems&gt;</dc:title>
</cp:coreProperties>
</file>