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3A7-8FE6-4DED-ADDE-BB6D09F1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D99-5A4A-45D1-9F01-452EFCF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ED7-9C01-459B-B7FC-3CC01D4E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E09-9DED-4A52-A6F7-A851EB6C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165B-E856-46AD-86ED-172AEEE0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64D5-B057-48B7-BE18-D70BAC01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1C28-F851-44CA-ADFF-D0B8938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D6F3-09C8-4A02-B692-6875F38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4BB2-48E3-45D2-A89F-AC0D446F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A64-CC8E-4F1D-8CCA-960D67CB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875C-3A5F-42EC-A668-D6E99B7B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D28-91F3-4A63-A8D8-614BCB16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8205-DB88-4248-9875-CDF0EE3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49AB-F4E5-4199-A963-3876173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8BD-BB46-49E6-9F3D-EDCE3478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E7F9-3CD6-4B5D-B626-29A3C0F6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2FE9-7C9A-42E3-811E-97D13B40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88A-78B3-4984-A107-401F2936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766-DB1F-4122-BBD9-E3DF5EEE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701-689C-4F8E-8D68-0C18312A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3FA-C5A4-4FD4-8F12-AFFB3EF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7E7-FEDE-4169-A6D2-729AC30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438-ED25-4438-A5F9-18AF5D51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A81-6827-4429-AF06-9F4483F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D98-59D2-4049-9D4F-1B194250CA15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00F-EE2C-41DC-AEC5-AB55FA493335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avelets:Theory and Compress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me Programming Gems chap2.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Times New Roman"/>
              </a:rPr>
              <a:t>戴明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Times New Roman"/>
              </a:rPr>
              <a:t>200204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avelets covers at once a mathematical theory , a compression method , and a data analysis too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Princi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 a group of N values,build a Binary Tre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ach of the 2 values form a group,calculate the average value,which is the value of next leve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rinciple of Wavelets is at any time we can obtain the initial value by reverse back the tree without losing informatio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d bran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t each node of a level,calculate the difference of its’ 2 parent node values,and we call the value of the difference “Detail coefficient”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dd the Detail coefficient as a branch of the current nod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o same job to each level and each nod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143000" y="2209680"/>
          <a:ext cx="3876840" cy="16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387684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2819520" y="4114800"/>
            <a:ext cx="3776400" cy="23590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5105520" y="2133720"/>
            <a:ext cx="3747960" cy="1928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00600" y="297180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028840" y="3886200"/>
            <a:ext cx="30492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2_5_4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57200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06:28:10Z</dcterms:created>
  <dc:creator>newleaf</dc:creator>
  <dc:description/>
  <dc:language>en-US</dc:language>
  <cp:lastModifiedBy>Ned_Dark_D</cp:lastModifiedBy>
  <dcterms:modified xsi:type="dcterms:W3CDTF">2002-04-19T13:43:56Z</dcterms:modified>
  <cp:revision>4</cp:revision>
  <dc:subject/>
  <dc:title>Wavelets:Theory and Compression</dc:title>
</cp:coreProperties>
</file>