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704-4F0F-4376-9A8B-C9207A39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3C1-8E50-46F2-83B4-D59F47D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4DC-CB4B-4E68-AF0E-AD81D8F4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0D2-3DB1-4777-B6FF-FD8BBC66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306-FCCF-4A27-B441-277E844C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7E46-DAA0-4D41-804F-D928520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694F-5F5B-40D1-82E8-DCB2433C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F377-A581-4041-8060-74D6AA0F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B3B0-DDF8-4276-A579-E5476CE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6253-A7BF-4C21-863A-2993B3F0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5B0C-39F2-4FA9-ADE4-3E11F55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E66-580A-4F09-88DA-7960E6F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E9A0-C9C6-4D62-9FE9-BADFB84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FBF2-0673-446D-93A7-89378A6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8E86-4337-424C-9CC7-D2C550F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9EB-BCDD-411D-8AC8-04CFFC23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DC0D-9CFE-4245-A3A5-7E11BC82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6BC-DDCB-4EEB-A51A-256708A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0AD-BA4B-4FA5-B4AE-775844F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677-AC80-4E11-8A0E-960EC5B9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269-A465-4C32-8255-E58BBB1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4E0-E5CD-4DCC-83C2-C02AB03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2F5-2C43-464A-AA89-C47CF55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2E5-E87E-493D-A285-4F4D135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D6C0-EF2B-406E-A051-AF822673FBB2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BCE-4312-4F5F-9E70-11CBA01C5B8D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口古月每週一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2960" y="3728520"/>
            <a:ext cx="695628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545472"/>
                </a:solidFill>
                <a:latin typeface="Tahoma"/>
              </a:rPr>
              <a:t>3.6 </a:t>
            </a: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Simplified 3D Movement and Pathfinding Using Navigation Meshes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2002.5.9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545472"/>
                </a:solidFill>
                <a:latin typeface="Tahoma"/>
              </a:rPr>
              <a:t>鄧志仁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ic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ing the mesh to implement A* still have problem that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Zig-Zag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along the pat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solving is to see the forward point as far as you can and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kip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 points between you and th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480" y="4680"/>
            <a:ext cx="7391160" cy="3500280"/>
            <a:chOff x="609480" y="4680"/>
            <a:chExt cx="7391160" cy="3500280"/>
          </a:xfrm>
        </p:grpSpPr>
        <p:pic>
          <p:nvPicPr>
            <p:cNvPr id="200" name="296" descr="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609480" y="4680"/>
              <a:ext cx="73911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flipH="1" flipV="1">
              <a:off x="6634440" y="467280"/>
              <a:ext cx="240840" cy="13251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734120" y="155520"/>
              <a:ext cx="2248920" cy="2416680"/>
              <a:chOff x="1734120" y="155520"/>
              <a:chExt cx="2248920" cy="2416680"/>
            </a:xfrm>
          </p:grpSpPr>
          <p:sp>
            <p:nvSpPr>
              <p:cNvPr id="203" name=""/>
              <p:cNvSpPr/>
              <p:nvPr/>
            </p:nvSpPr>
            <p:spPr>
              <a:xfrm>
                <a:off x="3662280" y="1324800"/>
                <a:ext cx="7992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662280" y="1090440"/>
                <a:ext cx="320760" cy="233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3822480" y="701280"/>
                <a:ext cx="160200" cy="389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3340800" y="155520"/>
                <a:ext cx="481680" cy="545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2778120" y="155520"/>
                <a:ext cx="562320" cy="77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698200" y="155520"/>
                <a:ext cx="79920" cy="15588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457000" y="311400"/>
                <a:ext cx="240840" cy="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76360" y="311400"/>
                <a:ext cx="80280" cy="155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135520" y="467280"/>
                <a:ext cx="240840" cy="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35880" y="467280"/>
                <a:ext cx="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814400" y="779400"/>
                <a:ext cx="321120" cy="7740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14400" y="857160"/>
                <a:ext cx="24084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814040" y="1168920"/>
                <a:ext cx="240840" cy="233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14400" y="1402920"/>
                <a:ext cx="160560" cy="155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734120" y="1558800"/>
                <a:ext cx="240840" cy="233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34480" y="1792440"/>
                <a:ext cx="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4480" y="2104560"/>
                <a:ext cx="561960" cy="467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67200" y="233640"/>
              <a:ext cx="2248920" cy="2416680"/>
              <a:chOff x="4867200" y="233640"/>
              <a:chExt cx="2248920" cy="2416680"/>
            </a:xfrm>
          </p:grpSpPr>
          <p:sp>
            <p:nvSpPr>
              <p:cNvPr id="221" name=""/>
              <p:cNvSpPr/>
              <p:nvPr/>
            </p:nvSpPr>
            <p:spPr>
              <a:xfrm>
                <a:off x="6795360" y="1402920"/>
                <a:ext cx="7992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6795360" y="1168560"/>
                <a:ext cx="320760" cy="233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6955560" y="779400"/>
                <a:ext cx="160200" cy="389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6473880" y="233640"/>
                <a:ext cx="481680" cy="545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5911200" y="233640"/>
                <a:ext cx="562320" cy="77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5831280" y="233640"/>
                <a:ext cx="79920" cy="15588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5590080" y="389520"/>
                <a:ext cx="240840" cy="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509440" y="389520"/>
                <a:ext cx="80280" cy="155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268600" y="545400"/>
                <a:ext cx="240840" cy="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68960" y="545400"/>
                <a:ext cx="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7480" y="857520"/>
                <a:ext cx="321120" cy="7740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47480" y="935280"/>
                <a:ext cx="24084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947120" y="1247040"/>
                <a:ext cx="240840" cy="233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47480" y="1481040"/>
                <a:ext cx="160560" cy="155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867200" y="1636920"/>
                <a:ext cx="240840" cy="233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67560" y="1870560"/>
                <a:ext cx="0" cy="31176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67560" y="2182680"/>
                <a:ext cx="561960" cy="46764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H="1" flipV="1">
              <a:off x="6634440" y="545760"/>
              <a:ext cx="240840" cy="1247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509800" y="545760"/>
              <a:ext cx="1124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29520" y="545400"/>
              <a:ext cx="80280" cy="2104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 using C++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Times New Roman"/>
              </a:rPr>
              <a:t>ClassifyPathToCell</a:t>
            </a:r>
            <a:endParaRPr b="0" lang="en-US" sz="2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紀錄一個向量對一個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ll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的可能情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yPathToCell(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otionp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nextcell, side , PointofIntersection 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tionpath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移動向量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extcell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紀錄下一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紀錄下往下一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ll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是從本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ell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的哪個邊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intofIntersection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則是交點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09480" y="1905120"/>
            <a:ext cx="8077320" cy="4190760"/>
            <a:chOff x="609480" y="1905120"/>
            <a:chExt cx="8077320" cy="4190760"/>
          </a:xfrm>
        </p:grpSpPr>
        <p:sp>
          <p:nvSpPr>
            <p:cNvPr id="244" name=""/>
            <p:cNvSpPr/>
            <p:nvPr/>
          </p:nvSpPr>
          <p:spPr>
            <a:xfrm>
              <a:off x="609480" y="1905120"/>
              <a:ext cx="80773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057400"/>
              <a:ext cx="7619760" cy="36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ClassifyPathToCell()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{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For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三個邊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{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測試移動向量是否頭尾各在此邊的內外兩側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如是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則視其為有</a:t>
              </a:r>
              <a:r>
                <a:rPr b="0" lang="zh-TW" sz="2200" spc="-1" strike="noStrike">
                  <a:solidFill>
                    <a:srgbClr val="ff3300"/>
                  </a:solidFill>
                  <a:latin typeface="Times New Roman"/>
                </a:rPr>
                <a:t>相交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且紀錄相交的邊號碼</a:t>
              </a: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side,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下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一個</a:t>
              </a: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cell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的指標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如頭尾都在三邊之內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則必</a:t>
              </a:r>
              <a:r>
                <a:rPr b="0" lang="zh-TW" sz="2200" spc="-1" strike="noStrike">
                  <a:solidFill>
                    <a:srgbClr val="ff3300"/>
                  </a:solidFill>
                  <a:latin typeface="Times New Roman"/>
                </a:rPr>
                <a:t>仍在此</a:t>
              </a:r>
              <a:r>
                <a:rPr b="0" lang="en-US" sz="2200" spc="-1" strike="noStrike">
                  <a:solidFill>
                    <a:srgbClr val="ff3300"/>
                  </a:solidFill>
                  <a:latin typeface="Times New Roman"/>
                </a:rPr>
                <a:t>cell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裡面或者跟此</a:t>
              </a: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cell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毫無關係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200" spc="-1" strike="noStrike">
                  <a:solidFill>
                    <a:srgbClr val="545472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562720" y="1752480"/>
            <a:ext cx="3429000" cy="1828800"/>
            <a:chOff x="5562720" y="1752480"/>
            <a:chExt cx="3429000" cy="1828800"/>
          </a:xfrm>
        </p:grpSpPr>
        <p:sp>
          <p:nvSpPr>
            <p:cNvPr id="247" name=""/>
            <p:cNvSpPr/>
            <p:nvPr/>
          </p:nvSpPr>
          <p:spPr>
            <a:xfrm>
              <a:off x="5562720" y="1752480"/>
              <a:ext cx="3429000" cy="1828800"/>
            </a:xfrm>
            <a:prstGeom prst="rect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629400" y="2133720"/>
              <a:ext cx="838080" cy="8380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6629400" y="2971800"/>
              <a:ext cx="1447920" cy="3808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480" y="2133720"/>
              <a:ext cx="609840" cy="12189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467480" y="2362320"/>
              <a:ext cx="609840" cy="4572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91520" y="3048120"/>
              <a:ext cx="609480" cy="32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545472"/>
                  </a:solidFill>
                  <a:latin typeface="Times New Roman"/>
                </a:rPr>
                <a:t>內內</a:t>
              </a:r>
              <a:endParaRPr b="0" lang="en-US" sz="15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81680" y="2362320"/>
              <a:ext cx="609840" cy="32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545472"/>
                  </a:solidFill>
                  <a:latin typeface="Times New Roman"/>
                </a:rPr>
                <a:t>內內</a:t>
              </a:r>
              <a:endParaRPr b="0" lang="en-US" sz="15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24680" y="2590920"/>
              <a:ext cx="609840" cy="32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545472"/>
                  </a:solidFill>
                  <a:latin typeface="Times New Roman"/>
                </a:rPr>
                <a:t>內外</a:t>
              </a:r>
              <a:endParaRPr b="0" lang="en-US" sz="15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一個</a:t>
            </a:r>
            <a:r>
              <a:rPr b="0" lang="zh-TW" sz="2800" spc="-1" strike="noStrike">
                <a:solidFill>
                  <a:srgbClr val="ff3300"/>
                </a:solidFill>
                <a:latin typeface="Tahoma"/>
              </a:rPr>
              <a:t>長距離的</a:t>
            </a:r>
            <a:r>
              <a:rPr b="0" lang="zh-TW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zh-TW" sz="2800" spc="-1" strike="noStrike">
                <a:solidFill>
                  <a:srgbClr val="ff3300"/>
                </a:solidFill>
                <a:latin typeface="Tahoma"/>
              </a:rPr>
              <a:t>向量</a:t>
            </a:r>
            <a:r>
              <a:rPr b="0" lang="zh-TW" sz="28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0" lang="zh-TW" sz="2800" spc="-1" strike="noStrike">
                <a:solidFill>
                  <a:srgbClr val="ff3300"/>
                </a:solidFill>
                <a:latin typeface="Tahoma"/>
              </a:rPr>
              <a:t>總共穿越哪些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ell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solveMotionOnMesh( startPos , startCell , endPos , endCell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rtPos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開始位置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rtCell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開始三角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ndPos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結束位置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ndCell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結束三角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9480" y="1905120"/>
            <a:ext cx="8077320" cy="4190760"/>
            <a:chOff x="609480" y="1905120"/>
            <a:chExt cx="8077320" cy="4190760"/>
          </a:xfrm>
        </p:grpSpPr>
        <p:sp>
          <p:nvSpPr>
            <p:cNvPr id="258" name=""/>
            <p:cNvSpPr/>
            <p:nvPr/>
          </p:nvSpPr>
          <p:spPr>
            <a:xfrm>
              <a:off x="609480" y="1905120"/>
              <a:ext cx="80773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2120" y="2057400"/>
              <a:ext cx="761976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ResolveMotionOnMesh(){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Project startpos endpos to 2D plan and become a 2DVector MOTION_PATH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This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為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artCell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ThisCell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ClassifyPathToCell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 MOTION_PATH )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下去判斷結果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如果</a:t>
              </a:r>
              <a:r>
                <a:rPr b="0" lang="zh-TW" sz="2000" spc="-1" strike="noStrike">
                  <a:solidFill>
                    <a:srgbClr val="ff3300"/>
                  </a:solidFill>
                  <a:latin typeface="Times New Roman"/>
                </a:rPr>
                <a:t>有交點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buClr>
                  <a:srgbClr val="545472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若交點之後為牆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,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則投影歪斜並結束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buClr>
                  <a:srgbClr val="545472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若交點之後為另一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則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ThisCell = NextCell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假如</a:t>
              </a:r>
              <a:r>
                <a:rPr b="0" lang="zh-TW" sz="2000" spc="-1" strike="noStrike">
                  <a:solidFill>
                    <a:srgbClr val="ff3300"/>
                  </a:solidFill>
                  <a:latin typeface="Times New Roman"/>
                </a:rPr>
                <a:t>無焦點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在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This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之內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則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endCell = ThisCell loo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停止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如果發生無關係狀況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則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loo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強制停止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 using C++(cont.)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Times New Roman"/>
              </a:rPr>
              <a:t>ResolveMotionOnMesh</a:t>
            </a:r>
            <a:endParaRPr b="0" lang="en-US" sz="2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324480" y="914400"/>
            <a:ext cx="2514600" cy="1447920"/>
            <a:chOff x="6324480" y="914400"/>
            <a:chExt cx="2514600" cy="1447920"/>
          </a:xfrm>
        </p:grpSpPr>
        <p:sp>
          <p:nvSpPr>
            <p:cNvPr id="262" name=""/>
            <p:cNvSpPr/>
            <p:nvPr/>
          </p:nvSpPr>
          <p:spPr>
            <a:xfrm>
              <a:off x="6324480" y="914400"/>
              <a:ext cx="2514600" cy="1447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06400" y="1216080"/>
              <a:ext cx="614520" cy="66348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106760" y="1879200"/>
              <a:ext cx="1061280" cy="30132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21280" y="1216080"/>
              <a:ext cx="446760" cy="96480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9680" y="1698480"/>
              <a:ext cx="111600" cy="1202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721280" y="1396800"/>
              <a:ext cx="446760" cy="361800"/>
            </a:xfrm>
            <a:prstGeom prst="line">
              <a:avLst/>
            </a:prstGeom>
            <a:ln w="936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21280" y="1216080"/>
              <a:ext cx="614520" cy="48240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168400" y="1698480"/>
              <a:ext cx="167400" cy="48240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21280" y="1216080"/>
              <a:ext cx="614520" cy="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336160" y="1216080"/>
              <a:ext cx="0" cy="48240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從頭建立一個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*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的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nding NavigationMes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imes New Roman"/>
              </a:rPr>
              <a:t>此程式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從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nd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找回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uildNavigationP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Path , StartCell, startPos, EndCell , EndPo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th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整個路徑的指標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rtPos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開始位置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rtCell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開始三角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ndPos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結束位置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ndCell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結束三角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9480" y="1905120"/>
            <a:ext cx="8077320" cy="4190760"/>
            <a:chOff x="609480" y="1905120"/>
            <a:chExt cx="8077320" cy="4190760"/>
          </a:xfrm>
        </p:grpSpPr>
        <p:sp>
          <p:nvSpPr>
            <p:cNvPr id="274" name=""/>
            <p:cNvSpPr/>
            <p:nvPr/>
          </p:nvSpPr>
          <p:spPr>
            <a:xfrm>
              <a:off x="609480" y="1905120"/>
              <a:ext cx="80773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120" y="2057400"/>
              <a:ext cx="7619760" cy="36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BuildNavigationPath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){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進入之時設定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pathsesstion++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表示新的路徑開始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(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跟之前路徑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id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的作區別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HEAPsetup(open list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所用的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hea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作初始化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EndCell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QueryForPath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heap , 0 , 0)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將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End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塞入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開始以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Hea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的順序來訪問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Hea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中之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ode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ThisCell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  <a:ea typeface="新細明體"/>
                </a:rPr>
                <a:t>ProcesscCell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(heap)(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將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neighbo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放到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hea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中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假如訪問到了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Start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則結束訪問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(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有路徑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如果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Hea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空了也結束訪問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(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無路徑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假如有路徑則從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art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到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End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放到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path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裡面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 using C++(cont.)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Times New Roman"/>
              </a:rPr>
              <a:t>BuildNavigationPath</a:t>
            </a:r>
            <a:endParaRPr b="0" lang="en-US" sz="2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 using C++(cont.)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Times New Roman"/>
              </a:rPr>
              <a:t>ProcessCell</a:t>
            </a:r>
            <a:endParaRPr b="0" lang="en-US" sz="2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將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ll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的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neighbor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塞到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eap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裡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cessCell( heap 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09480" y="1905120"/>
            <a:ext cx="8077320" cy="4190760"/>
            <a:chOff x="609480" y="1905120"/>
            <a:chExt cx="8077320" cy="4190760"/>
          </a:xfrm>
        </p:grpSpPr>
        <p:sp>
          <p:nvSpPr>
            <p:cNvPr id="280" name=""/>
            <p:cNvSpPr/>
            <p:nvPr/>
          </p:nvSpPr>
          <p:spPr>
            <a:xfrm>
              <a:off x="609480" y="1905120"/>
              <a:ext cx="80773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2057400"/>
              <a:ext cx="761976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ProcessCell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){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此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ell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在結束之後被設成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lose(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因為他的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eighbo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已經全被找出來了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Fo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三個邊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假如有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eighbo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則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eighbor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QueryForPath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heap, thiscell, cost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)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將其放到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heap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裡面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將此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ll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塞到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eap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裡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QueueForPath( heap , caller , arrivalcost 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ea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ller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表示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ren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rrivalcost : 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需要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 using C++(cont.)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Times New Roman"/>
              </a:rPr>
              <a:t>QueueForPath</a:t>
            </a:r>
            <a:endParaRPr b="0" lang="en-US" sz="2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09480" y="1905120"/>
            <a:ext cx="8077320" cy="4199400"/>
            <a:chOff x="609480" y="1905120"/>
            <a:chExt cx="8077320" cy="4199400"/>
          </a:xfrm>
        </p:grpSpPr>
        <p:sp>
          <p:nvSpPr>
            <p:cNvPr id="285" name=""/>
            <p:cNvSpPr/>
            <p:nvPr/>
          </p:nvSpPr>
          <p:spPr>
            <a:xfrm>
              <a:off x="609480" y="1905120"/>
              <a:ext cx="80773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2057400"/>
              <a:ext cx="7619760" cy="40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45472"/>
                  </a:solidFill>
                  <a:latin typeface="Times New Roman"/>
                </a:rPr>
                <a:t>QueueForPath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){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假如是新的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path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則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reset path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假如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alle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存在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,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則表示此為剛剛被看到的點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=&gt;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視其為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Open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2" marL="9144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記住此點的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  <a:ea typeface="新細明體"/>
                </a:rPr>
                <a:t>parent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為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aller(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從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alle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來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2" marL="9144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紀錄此點的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alle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是哪面牆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假如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alle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不存在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,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則表示此點為開始點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(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EndCell)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加入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Heap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假如此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path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</a:rPr>
                <a:t>已經存在且此點的狀態為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Open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則紀錄此點的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parent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與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Caller</a:t>
              </a: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的牆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 lvl="1" marL="457200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加入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  <a:ea typeface="新細明體"/>
                </a:rPr>
                <a:t>Heap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預告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.7 Flocking: A Simple Technique for Simulation Group Behav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avigation Mesh =&gt; Terrain follow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ving on i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thfind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ick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vigation Mes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ways cheating : Simplify 3D space into 2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前提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players are spend most of time on the flo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layers can’t walk through the objec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other area is called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Walkable Surface Are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vigation Mesh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r world can be treated like 2D tile-based game 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ach polygon be thought as a ce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for Collision : object only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lide with the polygon edg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nstead of real geometry collision tes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10080" y="4724280"/>
            <a:ext cx="3429000" cy="1828800"/>
            <a:chOff x="5410080" y="4724280"/>
            <a:chExt cx="3429000" cy="1828800"/>
          </a:xfrm>
        </p:grpSpPr>
        <p:sp>
          <p:nvSpPr>
            <p:cNvPr id="145" name=""/>
            <p:cNvSpPr/>
            <p:nvPr/>
          </p:nvSpPr>
          <p:spPr>
            <a:xfrm>
              <a:off x="5410080" y="4724280"/>
              <a:ext cx="34290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477120" y="5105520"/>
              <a:ext cx="838080" cy="8380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476760" y="5943600"/>
              <a:ext cx="1447560" cy="3808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5200" y="5105520"/>
              <a:ext cx="609480" cy="1218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920" y="5715000"/>
              <a:ext cx="152280" cy="1522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315200" y="5334120"/>
              <a:ext cx="60948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truction NeviMes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osed completely of triangles to ensure each cell is contained in a single pla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tiguou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: two triangle share a ed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No overlap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riang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’s invisible to us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it to limit the character’s mov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minimal amount of polygons to represent the worl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paring to Do : Every Player have a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trol Poin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n the Navigation Mesh Surfa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ject Desire Motion Vector from 3D to 2D onto cell (become a 2D vector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st the vector with Cell ed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ector intersects a unshared ed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ector intersects a shared ed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ector still in the cel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05520" y="4419720"/>
            <a:ext cx="3809880" cy="2209680"/>
            <a:chOff x="5105520" y="4419720"/>
            <a:chExt cx="3809880" cy="2209680"/>
          </a:xfrm>
        </p:grpSpPr>
        <p:sp>
          <p:nvSpPr>
            <p:cNvPr id="156" name=""/>
            <p:cNvSpPr/>
            <p:nvPr/>
          </p:nvSpPr>
          <p:spPr>
            <a:xfrm>
              <a:off x="5105520" y="4419720"/>
              <a:ext cx="380988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14640" y="4495680"/>
              <a:ext cx="1411560" cy="14140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5715000" y="5909760"/>
              <a:ext cx="2438640" cy="642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6560" y="4495680"/>
              <a:ext cx="1027080" cy="20570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70960" y="5781600"/>
              <a:ext cx="255600" cy="2566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6096240" y="4952520"/>
              <a:ext cx="914400" cy="9140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791320" y="4495680"/>
              <a:ext cx="1371600" cy="3805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715000" y="4876200"/>
              <a:ext cx="76320" cy="10666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05520" y="4343400"/>
            <a:ext cx="3809880" cy="2286000"/>
            <a:chOff x="5105520" y="4343400"/>
            <a:chExt cx="3809880" cy="2286000"/>
          </a:xfrm>
        </p:grpSpPr>
        <p:sp>
          <p:nvSpPr>
            <p:cNvPr id="165" name=""/>
            <p:cNvSpPr/>
            <p:nvPr/>
          </p:nvSpPr>
          <p:spPr>
            <a:xfrm>
              <a:off x="5105520" y="4419360"/>
              <a:ext cx="3809880" cy="221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714640" y="4495680"/>
              <a:ext cx="1411560" cy="14144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5715000" y="5910120"/>
              <a:ext cx="2438640" cy="642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6560" y="4495680"/>
              <a:ext cx="1027080" cy="20574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0960" y="5781600"/>
              <a:ext cx="255600" cy="2570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343400"/>
              <a:ext cx="1914480" cy="1668240"/>
            </a:xfrm>
            <a:custGeom>
              <a:avLst/>
              <a:gdLst/>
              <a:ahLst/>
              <a:rect l="l" t="t" r="r" b="b"/>
              <a:pathLst>
                <a:path w="1206" h="1051">
                  <a:moveTo>
                    <a:pt x="319" y="950"/>
                  </a:moveTo>
                  <a:cubicBezTo>
                    <a:pt x="291" y="962"/>
                    <a:pt x="265" y="976"/>
                    <a:pt x="237" y="987"/>
                  </a:cubicBezTo>
                  <a:cubicBezTo>
                    <a:pt x="219" y="994"/>
                    <a:pt x="182" y="1005"/>
                    <a:pt x="182" y="1005"/>
                  </a:cubicBezTo>
                  <a:cubicBezTo>
                    <a:pt x="139" y="1035"/>
                    <a:pt x="165" y="1021"/>
                    <a:pt x="100" y="1042"/>
                  </a:cubicBezTo>
                  <a:cubicBezTo>
                    <a:pt x="91" y="1045"/>
                    <a:pt x="72" y="1051"/>
                    <a:pt x="72" y="1051"/>
                  </a:cubicBezTo>
                  <a:cubicBezTo>
                    <a:pt x="33" y="1012"/>
                    <a:pt x="52" y="1040"/>
                    <a:pt x="36" y="987"/>
                  </a:cubicBezTo>
                  <a:cubicBezTo>
                    <a:pt x="31" y="968"/>
                    <a:pt x="18" y="932"/>
                    <a:pt x="18" y="932"/>
                  </a:cubicBezTo>
                  <a:cubicBezTo>
                    <a:pt x="8" y="822"/>
                    <a:pt x="0" y="795"/>
                    <a:pt x="18" y="676"/>
                  </a:cubicBezTo>
                  <a:cubicBezTo>
                    <a:pt x="23" y="644"/>
                    <a:pt x="45" y="635"/>
                    <a:pt x="63" y="612"/>
                  </a:cubicBezTo>
                  <a:cubicBezTo>
                    <a:pt x="76" y="596"/>
                    <a:pt x="128" y="513"/>
                    <a:pt x="155" y="502"/>
                  </a:cubicBezTo>
                  <a:cubicBezTo>
                    <a:pt x="198" y="485"/>
                    <a:pt x="203" y="487"/>
                    <a:pt x="237" y="457"/>
                  </a:cubicBezTo>
                  <a:cubicBezTo>
                    <a:pt x="307" y="395"/>
                    <a:pt x="355" y="312"/>
                    <a:pt x="420" y="246"/>
                  </a:cubicBezTo>
                  <a:cubicBezTo>
                    <a:pt x="457" y="208"/>
                    <a:pt x="502" y="176"/>
                    <a:pt x="539" y="137"/>
                  </a:cubicBezTo>
                  <a:cubicBezTo>
                    <a:pt x="566" y="109"/>
                    <a:pt x="587" y="75"/>
                    <a:pt x="621" y="54"/>
                  </a:cubicBezTo>
                  <a:cubicBezTo>
                    <a:pt x="631" y="48"/>
                    <a:pt x="678" y="38"/>
                    <a:pt x="685" y="36"/>
                  </a:cubicBezTo>
                  <a:cubicBezTo>
                    <a:pt x="767" y="13"/>
                    <a:pt x="856" y="9"/>
                    <a:pt x="941" y="0"/>
                  </a:cubicBezTo>
                  <a:cubicBezTo>
                    <a:pt x="975" y="3"/>
                    <a:pt x="1009" y="2"/>
                    <a:pt x="1042" y="9"/>
                  </a:cubicBezTo>
                  <a:cubicBezTo>
                    <a:pt x="1061" y="13"/>
                    <a:pt x="1114" y="72"/>
                    <a:pt x="1115" y="73"/>
                  </a:cubicBezTo>
                  <a:cubicBezTo>
                    <a:pt x="1131" y="89"/>
                    <a:pt x="1203" y="82"/>
                    <a:pt x="1206" y="82"/>
                  </a:cubicBezTo>
                  <a:lnTo>
                    <a:pt x="319" y="950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096240" y="4952880"/>
              <a:ext cx="914400" cy="9144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05520" y="4419720"/>
            <a:ext cx="3809880" cy="2209680"/>
            <a:chOff x="5105520" y="4419720"/>
            <a:chExt cx="3809880" cy="2209680"/>
          </a:xfrm>
        </p:grpSpPr>
        <p:sp>
          <p:nvSpPr>
            <p:cNvPr id="173" name=""/>
            <p:cNvSpPr/>
            <p:nvPr/>
          </p:nvSpPr>
          <p:spPr>
            <a:xfrm>
              <a:off x="5105520" y="4419720"/>
              <a:ext cx="380988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715000" y="4495680"/>
              <a:ext cx="1411200" cy="14144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5714640" y="5910120"/>
              <a:ext cx="2438280" cy="642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6200" y="4495680"/>
              <a:ext cx="1027080" cy="20574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70600" y="5781600"/>
              <a:ext cx="255600" cy="2574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705720" y="5257440"/>
              <a:ext cx="304560" cy="6094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DO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ce finished , project 2D back to 3D destination and move the p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little cheat : all normal of polygon is not allowed 90 degree from y axi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ces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2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st(until a cell is find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ck3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vigationCe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lane cellPla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DVector vertex[3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DLine side[3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vigationCell * link[3]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l NavigationCells construct a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vimes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thfind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r triangle can be seen as 3 edg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gri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lking on the mesh is better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walk on the edge. Drawback i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lking on the edge may appear other exception situation out of that 3 mention abov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lking on the edge may not show the represent of the m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4920" y="0"/>
            <a:ext cx="8381880" cy="3965400"/>
            <a:chOff x="304920" y="0"/>
            <a:chExt cx="8381880" cy="3965400"/>
          </a:xfrm>
        </p:grpSpPr>
        <p:pic>
          <p:nvPicPr>
            <p:cNvPr id="186" name="294" descr=""/>
            <p:cNvPicPr/>
            <p:nvPr/>
          </p:nvPicPr>
          <p:blipFill>
            <a:blip r:embed="rId4"/>
            <a:stretch/>
          </p:blipFill>
          <p:spPr>
            <a:xfrm>
              <a:off x="304920" y="0"/>
              <a:ext cx="8381880" cy="39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V="1">
              <a:off x="1981440" y="2133000"/>
              <a:ext cx="1447560" cy="12193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33720" y="2057040"/>
              <a:ext cx="129528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33720" y="1295280"/>
              <a:ext cx="1143000" cy="8380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286000" y="1295280"/>
              <a:ext cx="990720" cy="763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286000" y="914040"/>
              <a:ext cx="83844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486400" y="2057400"/>
              <a:ext cx="1447920" cy="1218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639040" y="1981080"/>
              <a:ext cx="1295280" cy="763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639040" y="1218600"/>
              <a:ext cx="1143000" cy="8384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91320" y="1218960"/>
              <a:ext cx="990720" cy="763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791320" y="838080"/>
              <a:ext cx="838080" cy="763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9:16:56Z</dcterms:created>
  <dc:creator>Ned_Dark_D</dc:creator>
  <dc:description/>
  <dc:language>en-US</dc:language>
  <cp:lastModifiedBy>Ned_Dark_D</cp:lastModifiedBy>
  <dcterms:modified xsi:type="dcterms:W3CDTF">2002-05-10T05:02:58Z</dcterms:modified>
  <cp:revision>6</cp:revision>
  <dc:subject/>
  <dc:title>口古月每週一報</dc:title>
</cp:coreProperties>
</file>