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103-3FB0-4DFC-AF94-9064618D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36E-048C-45FA-AF5B-3776FD6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C6D-03A8-4B41-83DE-8EADEF2B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8A7-23BB-436A-9584-4C6F959A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36CE-254D-4E01-A6CC-89767BD6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0F85-FE0D-453A-9D20-93C049C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095-A28C-4220-A5F2-5A74C09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695-BBF7-4510-AC4D-36D6A09B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F251-D438-452D-ADA7-5D94915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2A54-B8FB-4BCC-84FC-E12C0121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EF27-EF7C-40C7-89DE-E35BEFF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BD8-33C4-4BA6-AC2F-4030DCB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E435-C24B-4742-AD03-3E5289F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751D-E59D-4F0E-84FA-CDB06D6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DF7-1208-409A-9807-10C2267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7EA4-1B36-4F60-8AE1-0431A31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C5C6-D7D0-4CCA-95DE-D7CB73EB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482-149C-48BE-B25E-141FD183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4DE-012E-4F9B-914A-35303510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494-4055-47CF-9B9A-2E7163F9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268-574B-4EC4-933C-2DB6808E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56C-8C9D-4AC8-B977-8A10A38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F28-A1BF-4F17-BBEF-BAA926B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E0A-EC6C-4FAB-8345-DA996C95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EB56-5540-4FFE-B608-DCFB8E7AE667}" type="slidenum">
              <a:rPr b="0" lang="zh-TW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E3B3-3BAE-4A52-BA8C-0107E39DB82F}" type="slidenum">
              <a:rPr b="0" lang="zh-TW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e9"/>
                </a:solidFill>
                <a:latin typeface="Times New Roman"/>
              </a:rPr>
              <a:t>口古月每週一報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264c"/>
                </a:solidFill>
                <a:latin typeface="Times New Roman"/>
              </a:rPr>
              <a:t>3.7 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Flocking : A Simple Technique for Simulating Group Behavior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2002.5.17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264c"/>
                </a:solidFill>
                <a:latin typeface="Times New Roman"/>
              </a:rPr>
              <a:t>鄧志仁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imita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360degree full-spherical field of view is un-natu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33"/>
                </a:solidFill>
                <a:latin typeface="Times New Roman"/>
              </a:rPr>
              <a:t>預告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.8 Fuzzy Logic for Video Ga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locking : swarming or herding ,87’ for SIGGRAPH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When taken together , gave groups of autonomous agents(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oid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) a realistic form of group behavior similar to flock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rd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school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sh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, or swarm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e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64c"/>
                </a:solidFill>
                <a:latin typeface="Times New Roman"/>
              </a:rPr>
              <a:t>Separation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分離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) :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ive the agent the ability to try to maintain a certain separation distance from other agent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revent agent from groups together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Having each member of a flock test what distance between, and adjusting the headin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264c"/>
                </a:solidFill>
                <a:latin typeface="Times New Roman"/>
              </a:rPr>
              <a:t>Alignment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列隊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校直</a:t>
            </a:r>
            <a:r>
              <a:rPr b="0" lang="zh-TW" sz="24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bility to align with other agent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djusting its heading and speed to match the average heading and speed of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1676520"/>
            <a:ext cx="8382240" cy="4876560"/>
            <a:chOff x="380880" y="1676520"/>
            <a:chExt cx="8382240" cy="4876560"/>
          </a:xfrm>
        </p:grpSpPr>
        <p:sp>
          <p:nvSpPr>
            <p:cNvPr id="99" name=""/>
            <p:cNvSpPr/>
            <p:nvPr/>
          </p:nvSpPr>
          <p:spPr>
            <a:xfrm>
              <a:off x="380880" y="1676520"/>
              <a:ext cx="8382240" cy="487656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4343400"/>
              <a:ext cx="72388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264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Property 4 Avoidance (</a:t>
              </a:r>
              <a:r>
                <a:rPr b="0" lang="zh-TW" sz="2400" spc="-1" strike="noStrike">
                  <a:solidFill>
                    <a:srgbClr val="00264c"/>
                  </a:solidFill>
                  <a:latin typeface="Times New Roman"/>
                </a:rPr>
                <a:t>遠離</a:t>
              </a:r>
              <a:r>
                <a:rPr b="0" lang="zh-TW" sz="2400" spc="-1" strike="noStrike">
                  <a:solidFill>
                    <a:srgbClr val="00264c"/>
                  </a:solidFill>
                  <a:latin typeface="Times New Roman"/>
                </a:rPr>
                <a:t>) :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500"/>
                </a:spcBef>
                <a:buClr>
                  <a:srgbClr val="00264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  <a:ea typeface="新細明體"/>
                </a:rPr>
                <a:t>Steer to avoid running into local obstacles or enemy.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1981080"/>
              <a:ext cx="7010280" cy="18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333333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ohesion (</a:t>
              </a:r>
              <a:r>
                <a:rPr b="0" lang="zh-TW" sz="2400" spc="-1" strike="noStrike">
                  <a:solidFill>
                    <a:srgbClr val="00264c"/>
                  </a:solidFill>
                  <a:latin typeface="Times New Roman"/>
                </a:rPr>
                <a:t>內聚</a:t>
              </a:r>
              <a:r>
                <a:rPr b="0" lang="zh-TW" sz="2400" spc="-1" strike="noStrike">
                  <a:solidFill>
                    <a:srgbClr val="00264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601"/>
                </a:spcBef>
                <a:buClr>
                  <a:srgbClr val="333333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  <a:ea typeface="新細明體"/>
                </a:rPr>
                <a:t>Group with other nearby agents.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601"/>
                </a:spcBef>
                <a:buClr>
                  <a:srgbClr val="333333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  <a:ea typeface="新細明體"/>
                </a:rPr>
                <a:t>Having each agent examine nearby agents, averaging their positions and then adjust its heading to match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No Memor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locking is a stateless algorithm in that no information is maintained from update to update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ach boid reevaluates its environment at every update cycl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se Enti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xis : Forward , Left , Up and three motion to the axis including roll, pitch, yaw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Velocity vect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erception range : how far a flockmate can look around its environment to detect other flockmates , potential obstacles , enemy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ax Spee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as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81080"/>
            <a:ext cx="8229600" cy="4343400"/>
          </a:xfrm>
          <a:prstGeom prst="rect">
            <a:avLst/>
          </a:prstGeom>
          <a:solidFill>
            <a:srgbClr val="ffff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90920"/>
            <a:ext cx="1676520" cy="914400"/>
          </a:xfrm>
          <a:prstGeom prst="rect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Box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81080" y="3505320"/>
            <a:ext cx="5715000" cy="1295280"/>
            <a:chOff x="1981080" y="3505320"/>
            <a:chExt cx="5715000" cy="1295280"/>
          </a:xfrm>
        </p:grpSpPr>
        <p:sp>
          <p:nvSpPr>
            <p:cNvPr id="110" name=""/>
            <p:cNvSpPr/>
            <p:nvPr/>
          </p:nvSpPr>
          <p:spPr>
            <a:xfrm>
              <a:off x="2590920" y="3886200"/>
              <a:ext cx="1676160" cy="9144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Flock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5680" y="41911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Flock from 1 to n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08" idx="2"/>
              <a:endCxn id="110" idx="1"/>
            </p:cNvCxnSpPr>
            <p:nvPr/>
          </p:nvCxnSpPr>
          <p:spPr>
            <a:xfrm flipH="1" rot="16200000">
              <a:off x="1866960" y="3619080"/>
              <a:ext cx="838800" cy="61056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3427920" y="4800240"/>
            <a:ext cx="4878000" cy="1143360"/>
            <a:chOff x="3427920" y="4800240"/>
            <a:chExt cx="4878000" cy="1143360"/>
          </a:xfrm>
        </p:grpSpPr>
        <p:sp>
          <p:nvSpPr>
            <p:cNvPr id="114" name=""/>
            <p:cNvSpPr/>
            <p:nvPr/>
          </p:nvSpPr>
          <p:spPr>
            <a:xfrm>
              <a:off x="3733920" y="5029200"/>
              <a:ext cx="1676160" cy="914400"/>
            </a:xfrm>
            <a:prstGeom prst="rect">
              <a:avLst/>
            </a:prstGeom>
            <a:solidFill>
              <a:srgbClr val="78c0b2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CBoid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53341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64c"/>
                  </a:solidFill>
                  <a:latin typeface="Times New Roman"/>
                </a:rPr>
                <a:t>Member from 1 to n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>
              <a:stCxn id="110" idx="2"/>
              <a:endCxn id="114" idx="1"/>
            </p:cNvCxnSpPr>
            <p:nvPr/>
          </p:nvCxnSpPr>
          <p:spPr>
            <a:xfrm flipH="1" rot="16200000">
              <a:off x="3237480" y="4990680"/>
              <a:ext cx="686520" cy="30564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Box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nly define th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nd provide us with a simple way to parameterize and retrieve the boundaries of our worl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Floc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 basic flock of boid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ynamic created and destroyed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Update() to update all member dat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rintData() to debu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The important is that members of a flock don’t know what they’re a member of , but the flock is exactly knowing that which is in it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Boi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Flockit() to building a list of those flockmate can be seen and a list of enemy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KeepDistance() =&gt; separation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MatchHeading() =&gt; alignment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SteerToCenter() =&gt; cohesion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FleeEnemies() =&gt; avoidance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Cruising() attemps to model a boid’s desired cruising speed.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ComputeRPY() =&gt; make calculation to orient boid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SzPct val="10764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WorldBound() =&gt; make sure not go too far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6:05:34Z</dcterms:created>
  <dc:creator>Ned_Dark_D</dc:creator>
  <dc:description/>
  <dc:language>en-US</dc:language>
  <cp:lastModifiedBy>Ned_Dark_D</cp:lastModifiedBy>
  <dcterms:modified xsi:type="dcterms:W3CDTF">2002-05-16T17:28:27Z</dcterms:modified>
  <cp:revision>1</cp:revision>
  <dc:subject/>
  <dc:title>口古月每週一報</dc:title>
</cp:coreProperties>
</file>