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DAC2-A1C0-4C3D-AE49-35DB8E024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845D-6694-403C-9496-3E5AAB0B1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DE8C-07D7-46B9-970A-794849541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081E-85A1-4672-8710-439429233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129CF-3CC2-4B78-BB4B-A1B97F4A1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DD300-89D2-433F-8EE4-CED560113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30061-6A99-4770-B670-F5D148B94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913C7-AD9F-4BF1-BACB-541D71BC2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909C4-D6CF-49E8-BFB7-6BAC80ADE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5D908-079F-42F5-8A84-F6037DC7B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E76D1-1176-4ADB-8179-BD8A7296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345B-CBD3-48CD-B29E-9CB41F190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2E6E0-7D9D-4CE0-8534-962E3CCE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42560-A14D-44F7-9517-40A44F69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2108B-8A4F-4FBE-BCDC-B9FE98095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CA166-2265-4975-8060-0210CDE28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B4701-E61F-4FCE-9296-3C0B2DC14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8E15-A4B4-4D2E-9EBF-1D18F5DB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84C1-ABEC-4232-99BB-FC4642E72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8BFE-6A86-497F-81DC-0EDA803E7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1660-F4E8-4F0B-80BF-B5D1446F1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342F-1AD8-4629-8B38-8D41AE45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1B89-CA30-4233-80E7-81DB2981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A20E-383F-486A-9D9F-9960D8D8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4920B-EC16-425B-A091-B4A7E741A8E0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98E81-8390-49FB-9327-7EFD612D3578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6964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ptimizing Vertex Submission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or OpenG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743200" y="510552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戴明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2002/3/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95280" y="3962520"/>
            <a:ext cx="67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 Black"/>
              </a:rPr>
              <a:t>(from Game Programming Gems Chap4.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Data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tex Li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tex Stri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dexed Verti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mmediate Mo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glVertex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glColo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glNorm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4267080"/>
            <a:ext cx="7086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sy to use but have lowest performa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wo Factor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ral functions must be called to render a single vertex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ch function does little work and then exi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51814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function overhead is high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ompar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total,it required 163154 CPU cycles to submit and render all 300 vertices.(900 function calls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nterleaved 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34286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glInterrleavedArray can submit all vertex in a single structure with a single funtion call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glDrawArrays,glDrawElements,glArrayElement must be called to actually rendeer the data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2590920"/>
          <a:ext cx="8381880" cy="457200"/>
        </p:xfrm>
        <a:graphic>
          <a:graphicData uri="http://schemas.openxmlformats.org/drawingml/2006/table">
            <a:tbl>
              <a:tblPr/>
              <a:tblGrid>
                <a:gridCol w="890640"/>
                <a:gridCol w="892080"/>
                <a:gridCol w="884160"/>
                <a:gridCol w="900360"/>
                <a:gridCol w="890640"/>
                <a:gridCol w="890280"/>
                <a:gridCol w="892440"/>
                <a:gridCol w="892080"/>
                <a:gridCol w="892080"/>
                <a:gridCol w="35712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tex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lor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ure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838080" y="2209680"/>
            <a:ext cx="2133720" cy="381240"/>
          </a:xfrm>
          <a:custGeom>
            <a:avLst/>
            <a:gdLst>
              <a:gd name="textAreaLeft" fmla="*/ 373320 w 2133720"/>
              <a:gd name="textAreaRight" fmla="*/ 1546920 w 213372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52680" y="2209680"/>
            <a:ext cx="2133720" cy="381240"/>
          </a:xfrm>
          <a:custGeom>
            <a:avLst/>
            <a:gdLst>
              <a:gd name="textAreaLeft" fmla="*/ 373320 w 2133720"/>
              <a:gd name="textAreaRight" fmla="*/ 1546920 w 213372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19920" y="2209680"/>
            <a:ext cx="2133360" cy="381240"/>
          </a:xfrm>
          <a:custGeom>
            <a:avLst/>
            <a:gdLst>
              <a:gd name="textAreaLeft" fmla="*/ 373320 w 2133360"/>
              <a:gd name="textAreaRight" fmla="*/ 1546920 w 213336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ompar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total,it required 72821 CPU cycles to submit and render all 300 vertice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4% less time than immediate mo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tride and Streamed 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838080" y="3276720"/>
          <a:ext cx="7314840" cy="1269720"/>
        </p:xfrm>
        <a:graphic>
          <a:graphicData uri="http://schemas.openxmlformats.org/drawingml/2006/table">
            <a:tbl>
              <a:tblPr/>
              <a:tblGrid>
                <a:gridCol w="1462320"/>
                <a:gridCol w="1463040"/>
                <a:gridCol w="1464480"/>
                <a:gridCol w="1462680"/>
                <a:gridCol w="1462320"/>
              </a:tblGrid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tex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lor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ure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2286000" y="23623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dependent Data Strea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495288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Use  glVertexPointer,glColorPointer…to submit vertex da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Use glDrawArrays,glArrayElement,flDrawElements to rend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ompar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total,it required 51212 CPU cycles to submit and render all 300 vertices.30% less time than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Interleave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data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ortant when using SIMD(Single Instruction Multiple Data) such as Intel MMX or AMD 3DNOW!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bcbcb"/>
                </a:solidFill>
                <a:latin typeface="Times New Roman"/>
              </a:rPr>
              <a:t>Comepiled Vertex Arra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2514600"/>
            <a:ext cx="6858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Arial Unicode MS"/>
              </a:rPr>
              <a:t>NVIDIA’s OpenGL extens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 Unicode MS"/>
              </a:rPr>
              <a:t>Defines an interface which allows static vertex array data to be cached or pre-compiled for more efficient rendering. CVA isvery useful for data that is static,or that can be used multiple times before being modif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60199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other vendor extension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7T14:04:43Z</dcterms:created>
  <dc:creator>newleaf</dc:creator>
  <dc:description/>
  <dc:language>en-US</dc:language>
  <cp:lastModifiedBy>newleaf</cp:lastModifiedBy>
  <dcterms:modified xsi:type="dcterms:W3CDTF">2002-03-08T02:17:26Z</dcterms:modified>
  <cp:revision>2</cp:revision>
  <dc:subject/>
  <dc:title>Optimizing Vertex Submission  for OpenGL</dc:title>
</cp:coreProperties>
</file>