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054-BA1C-43D9-9767-66394183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247-8C48-45FC-849D-5B23B065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9FB-C439-4E65-8120-7BF9D3CF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58D-7F74-450F-9470-82C0FD5D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CFDD-110E-45AD-9584-3084262C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70A9-4929-4685-9988-4939C39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F94E-79B8-4435-A62E-DA3C34E1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B684-9628-4634-B823-EC4AEC98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187B-7AB6-40C8-9E68-37354CF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878-8649-43C0-B120-864EC40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34A-9774-4AF4-A1F5-CC5FEC86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7D7-F23C-4A0F-BD72-FC2D4AEA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10A6-9E85-4752-94DB-515C3D1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7559-7149-499E-B2A6-860297B1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32B3-E0FB-45D1-AE38-FCE4F6A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28D1-82B3-4AE4-BCB2-41DBCBF6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65CB-EE20-43FD-8947-AC3F5374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106-494C-4B5D-9D17-1E6F98F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147-3023-4B2C-8115-14FF886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A9B-97C3-49E9-9B3A-6101221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14F-03A2-4007-A09C-E383D26A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5F2-F60E-4E09-B21E-9A2E6227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624-BAF5-468F-B8D9-BA1FC6C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477-C180-4C1E-9A9A-2172858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B55C-9257-42F6-B636-2E53B6E4653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9CF-D63F-4606-AE94-43F4E5E5734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cc66"/>
                </a:solidFill>
                <a:latin typeface="Impact"/>
                <a:ea typeface="MS Gothic"/>
              </a:rPr>
              <a:t>Octree Construction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Game Progamming Gems Chap 4.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518148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戴明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20020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ctree is a simple data structure that can be used to spatially subdivide geometry of any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ctree is best suited to static terrain,but can also be used to store attachment lists for objects that move dynamically in a sc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tree is simply a tree with a maximum of eight children at every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 node contains a cube that encloses all the geometry in th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node at each node are eight cubes of equal size that subdivide the parent into oc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ctree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unding Cu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he cube is the space that the node of the octree encl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ometry Li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he polygon list encloses by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ildr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ointers to eight children of each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ighb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ointers to six neighbors of each node that are used to traversal for collision dete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1:Building the tre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t a list of all the polygons in the world and construct the root n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uildOctree( Node N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f(NumPolys(N) &gt; POLY_THRESHOLD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or( int i = 0 ; i &lt; 9 ; i++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uildNode( N-&gt;Child[i], i , N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uildOctree( N-&gt;Child[i] 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ildNode does two jobs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the bounding cube for the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se index I to partition the parent’s box appropria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Determines which polygons lie within the node’s cu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ore the geometry for each node to a list of are 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2:Polygon Overla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o determine whether a polygon lies within a cu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se Is_Triangle_Intersects_Voxel method in [Moller99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3:Find Neighb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ighbor for a given cube face is defined to be the node of 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equal size or grea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touches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s to consider a neigh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mals of the faces must be in opposite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e vertices in the source face lie on or inside the destination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face’s size is &lt;= destination face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ility deter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ing the visibility of dynamic objects in th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ling in collision 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2:30:33Z</dcterms:created>
  <dc:creator>newleaf</dc:creator>
  <dc:description/>
  <dc:language>en-US</dc:language>
  <cp:lastModifiedBy>newleaf</cp:lastModifiedBy>
  <dcterms:modified xsi:type="dcterms:W3CDTF">2002-03-15T03:14:38Z</dcterms:modified>
  <cp:revision>1</cp:revision>
  <dc:subject/>
  <dc:title>Octree Construction</dc:title>
</cp:coreProperties>
</file>