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510-7EDB-4C4E-A31D-3D96DFB0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055-4D55-4011-AB64-58A2410F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2DF-2D65-4806-9114-0F6B8D66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903-B4F6-49EE-9971-DF9100A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6A0-FCBE-463F-951F-E222B92C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ABA-7A82-451A-828D-BA21781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AD20-83E1-4E5E-9353-8EDE1DA7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B59E-0298-4721-86A8-0F9BF55E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E72-5EBD-4039-976F-96D5B5D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D42B-CAD2-40B1-A580-F09F452E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EC6-94DC-49F1-A598-9DAFA79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429-5346-462A-B52C-D8A5606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FA3-FF4F-4DD9-9550-C5E4CF0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5492-9FD1-464E-81F0-05F3110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1FF9-52C4-41F7-BB90-559E6B11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6BAA-EDC2-4819-9272-B92DCDA5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4DC0-FC55-4E2E-91DB-2EAB7B02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3F7-403C-4C05-925F-8DFF2ABD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321-AFAF-4373-8AC2-67C898F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7F7-BB32-4B6B-BCAD-96DEF709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790-4FA0-4CD8-B7C8-AEC91D2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88E-43B9-47D9-AD4F-2AE3F1E6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6AC-C6DE-49E5-9D77-0F9BCAE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4F1-FBB7-40CF-8C7C-B69E824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BD3D-8694-4C99-A937-74DEC7D9C140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33FF-F82C-4A83-994E-A70A2F50988B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ose Octre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hatcher Ulrich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ame Programming Gems 4.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戴明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2002032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ventional Octre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(depth) = W/(2^depth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(depth) = W/(2^depth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352680"/>
            <a:ext cx="3352680" cy="30481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876920"/>
            <a:ext cx="33526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3352680"/>
            <a:ext cx="0" cy="30481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ventional Octree(cont.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mall objects may be stored in a octree node with very large bounding volume when an object straddles the boundary plane between two large nod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4_11_3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12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ose Octre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sening the bounding cub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L(depth)=k*W/(2^depth)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k = 2 is a useful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4_11_2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2262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371600" y="0"/>
          <a:ext cx="7772400" cy="27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77724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37160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we get the depth of the node,we can compute the node indices by just find the closest node to the object’s ce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71600" y="4419720"/>
          <a:ext cx="7391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419720"/>
                    <a:ext cx="7391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371600" y="5334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spatial operations on loose octree is very similar to conventional octre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ble 4.11.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ble 4.11.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3:59:24Z</dcterms:created>
  <dc:creator>newleaf</dc:creator>
  <dc:description/>
  <dc:language>en-US</dc:language>
  <cp:lastModifiedBy>Ned_Dark_D</cp:lastModifiedBy>
  <dcterms:modified xsi:type="dcterms:W3CDTF">2002-04-19T13:47:26Z</dcterms:modified>
  <cp:revision>3</cp:revision>
  <dc:subject/>
  <dc:title>Loose Octrees      Thatcher Ulrich</dc:title>
</cp:coreProperties>
</file>