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4C8-9AA6-4D49-B906-E3B99B4A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B11-420D-4804-94E6-FCFB6AB0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0BB-B1BB-456E-B9CC-27EE053B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735-D6C7-4F21-AEBA-D4F24D6B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B4F2-4AD1-423A-A53D-1B5768E2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D508-12F0-4871-AF63-0841F2BF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54A1-0C89-4647-935A-A0AFA0E3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E5E4-6988-4136-A132-6AD7DEB2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205D-2342-4761-869B-834F2EEB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5B86-C793-44F1-9567-1349B7DF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0AA1-3001-49E4-9A2D-76715D09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D94-723A-4179-AFF6-478F4ED4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D316-2657-4124-B620-38C063FC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7E58-F727-498B-8B25-C33A55D8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CD5C-F025-45DC-9C82-8FD34BC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F376-59D4-419C-9D70-76F5F240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F031-A28F-4FC2-9D4F-622362CB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0B6-E9C3-4638-837E-C1C365D2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3F9-2C5E-427A-A639-67D5C0F2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B9B-755A-4403-B326-B25FB4E6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8DF-C4D6-41BF-B4A8-1E4D5974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27D-65D9-4105-92C6-78E7029F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120-059C-485A-BC81-2E5B283F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8A8-A11D-4A5C-B40E-99622C32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427F-9485-453A-B50C-7883C508E88E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59CC-FF48-44F7-8577-58C753364D95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096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polated 3D Keyframe Anim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5b5249"/>
                </a:solidFill>
                <a:latin typeface="Times New Roman"/>
              </a:rPr>
              <a:t>每週一爆</a:t>
            </a:r>
            <a:r>
              <a:rPr b="0" lang="zh-TW" sz="32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kchu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nal the desired keyframe i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4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6934320" cy="3160440"/>
          </a:xfrm>
          <a:prstGeom prst="rect">
            <a:avLst/>
          </a:prstGeom>
          <a:ln w="0">
            <a:noFill/>
          </a:ln>
        </p:spPr>
      </p:pic>
      <p:pic>
        <p:nvPicPr>
          <p:cNvPr id="121" name="9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73911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lpha is usually zer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5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5438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near interpolation 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asy and inexpensiv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w cost of per vertex calculatio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rmite spline interpolation 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igh quality of animatio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igher cost of  per vertex calculatio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interpo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erpolation—also know as blending,morphing,or tweening --- is the process of creating a new position between two existing position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inear Interpola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0                    P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(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(t) = P0 + t(P1-P0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2514240" y="2437920"/>
            <a:ext cx="1080" cy="1080"/>
          </a:xfrm>
          <a:prstGeom prst="straightConnector1">
            <a:avLst/>
          </a:prstGeom>
          <a:ln w="9360">
            <a:solidFill>
              <a:srgbClr val="5b5249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4038480" y="2971800"/>
            <a:ext cx="18288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952520" y="2971800"/>
            <a:ext cx="22860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1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620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2" descr=""/>
          <p:cNvPicPr/>
          <p:nvPr/>
        </p:nvPicPr>
        <p:blipFill>
          <a:blip r:embed="rId1"/>
          <a:stretch/>
        </p:blipFill>
        <p:spPr>
          <a:xfrm>
            <a:off x="1066680" y="2104920"/>
            <a:ext cx="77724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3" descr=""/>
          <p:cNvPicPr/>
          <p:nvPr/>
        </p:nvPicPr>
        <p:blipFill>
          <a:blip r:embed="rId1"/>
          <a:stretch/>
        </p:blipFill>
        <p:spPr>
          <a:xfrm>
            <a:off x="1066680" y="210816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rawbac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me interpolated animation frames may have a tendency to deform to a greater or lesser ext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6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rmite Spline Interpo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ke  into account the tension fact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additional keyframes are used to refine the calculation for the new posi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0:fir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1:seco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2:thir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3:four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7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44193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method to find P0~P3 is the same as linear interpolat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0 and P3 are used to calculate the tangent vector  m0 and m1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thod to find tangent vector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8" descr=""/>
          <p:cNvPicPr/>
          <p:nvPr/>
        </p:nvPicPr>
        <p:blipFill>
          <a:blip r:embed="rId1"/>
          <a:stretch/>
        </p:blipFill>
        <p:spPr>
          <a:xfrm>
            <a:off x="1295280" y="4876920"/>
            <a:ext cx="72392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CHU</cp:lastModifiedBy>
  <dcterms:modified xsi:type="dcterms:W3CDTF">2002-04-17T03:51:10Z</dcterms:modified>
  <cp:revision>5</cp:revision>
  <dc:subject/>
  <dc:title>PowerPoint Presentation</dc:title>
</cp:coreProperties>
</file>