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8F641-4C3A-43C7-ABA1-E007ABD39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95012-A79D-473E-B933-03BB63DC6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254C2-2218-471E-84DE-8E3D5368A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F833B-6122-4664-9591-5F0A0D442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CCA53-2543-440D-AD47-F3942E49C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4A6F2-120C-4DC6-A586-5A73EFCE5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46E47-E009-413C-AD70-49865D937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96CC7-6FDA-43DF-A97A-0A86D9BD3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E7018-589F-4132-8569-5964F0CE9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ED6C9-6DD2-461C-AB7F-782FB65F0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ECDBE-9F15-42CA-8FFB-EA9306641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689A4-8DD5-4DEC-8FCC-DFBD68342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7857F-8937-444C-A90B-61ABB3A5E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07B3B-B27C-493F-B9D0-D4C339BAE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9B4E1-3250-44CB-BF2C-21E7666CF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798AD-8F18-407B-A658-F36CDD4EA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6767C-26B8-4F1D-A2C2-DB60E23AC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C1528-B8E2-4ADE-8969-1585A32F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55C44-73D7-4237-87C5-4EBF42C8B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85959-7EE9-4356-A693-93AC8D263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E3AF6-D682-4CF6-B576-37B82FA09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26BBE-10DE-4E2F-9520-FBF1EAD71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215A-D4BE-4E8E-9B5F-05496600A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0BC63-35CE-4115-92AD-3BBF84C33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D86B-D7C4-4651-87C8-C3D989DA423A}"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88CB-4DF8-4714-83C0-D8B40E2AE4C3}"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ame Programming Gems Section 4-15</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ling the Gaps –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anced Animation Using Stitching and Skinning </a:t>
            </a:r>
            <a:endParaRPr b="0" lang="en-US" sz="3200" spc="-1" strike="noStrike">
              <a:solidFill>
                <a:srgbClr val="ffffff"/>
              </a:solidFill>
              <a:latin typeface="Times New Roman"/>
            </a:endParaRPr>
          </a:p>
        </p:txBody>
      </p:sp>
      <p:sp>
        <p:nvSpPr>
          <p:cNvPr id="90" name=""/>
          <p:cNvSpPr/>
          <p:nvPr/>
        </p:nvSpPr>
        <p:spPr>
          <a:xfrm>
            <a:off x="3429000" y="617220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2002/04/19 </a:t>
            </a:r>
            <a:r>
              <a:rPr b="0" lang="zh-TW" sz="2400" spc="-1" strike="noStrike">
                <a:solidFill>
                  <a:srgbClr val="ffffff"/>
                </a:solidFill>
                <a:latin typeface="Times New Roman"/>
              </a:rPr>
              <a:t>口古月每週一報</a:t>
            </a:r>
            <a:endParaRPr b="0" lang="en-US" sz="2400" spc="-1" strike="noStrike">
              <a:solidFill>
                <a:srgbClr val="ffffff"/>
              </a:solidFill>
              <a:latin typeface="Times New Roman"/>
            </a:endParaRPr>
          </a:p>
        </p:txBody>
      </p:sp>
      <p:sp>
        <p:nvSpPr>
          <p:cNvPr id="91" name=""/>
          <p:cNvSpPr/>
          <p:nvPr/>
        </p:nvSpPr>
        <p:spPr>
          <a:xfrm>
            <a:off x="5965920" y="60357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 make your character look more compelling …</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eletal representation for game characters as their topology for animation is widely used in games now.</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 the geometry is completely rigid, however, there will be blatant dicontinuities at the joint at which they  are connecte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improve it, we often use stitching or skin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itching</a:t>
            </a:r>
            <a:endParaRPr b="0" lang="en-US" sz="4400" spc="-1" strike="noStrike">
              <a:solidFill>
                <a:srgbClr val="ffcc66"/>
              </a:solidFill>
              <a:latin typeface="Arial"/>
            </a:endParaRPr>
          </a:p>
        </p:txBody>
      </p:sp>
      <p:sp>
        <p:nvSpPr>
          <p:cNvPr id="95"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tes a continuous mesh attached to a bone structure(the vertex structure will use a pointer or index for the bone, P477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vertex on the mesh can be transformed by a different matrix representing the bone to which the individual vertex is attache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when the bines are manipulated, these polygons of the mesh will fill the gap you will see in rigid-body anim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 process character animation …</a:t>
            </a:r>
            <a:endParaRPr b="0" lang="en-US" sz="4400" spc="-1" strike="noStrike">
              <a:solidFill>
                <a:srgbClr val="ffcc66"/>
              </a:solidFill>
              <a:latin typeface="Arial"/>
            </a:endParaRPr>
          </a:p>
        </p:txBody>
      </p:sp>
      <p:sp>
        <p:nvSpPr>
          <p:cNvPr id="97"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need to deal with the problem that our vertices are not in the correct space to be properly transforme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the bones  starts with its pivot point at the origin of the coordinate space of the character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we have to transform the vertices of the skin into the local coordinate space of the bones to which they are attached before transforming them by the bones’s animation matrix </a:t>
            </a:r>
            <a:endParaRPr b="0" lang="en-US" sz="2800" spc="-1" strike="noStrike">
              <a:solidFill>
                <a:srgbClr val="ffffff"/>
              </a:solidFill>
              <a:latin typeface="Times New Roman"/>
            </a:endParaRPr>
          </a:p>
        </p:txBody>
      </p:sp>
      <p:pic>
        <p:nvPicPr>
          <p:cNvPr id="98" name="Image" descr=""/>
          <p:cNvPicPr/>
          <p:nvPr/>
        </p:nvPicPr>
        <p:blipFill>
          <a:blip r:embed="rId1"/>
          <a:stretch/>
        </p:blipFill>
        <p:spPr>
          <a:xfrm>
            <a:off x="380880" y="380880"/>
            <a:ext cx="8534520" cy="37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inued</a:t>
            </a:r>
            <a:endParaRPr b="0" lang="en-US" sz="4400" spc="-1" strike="noStrike">
              <a:solidFill>
                <a:srgbClr val="ffcc66"/>
              </a:solidFill>
              <a:latin typeface="Arial"/>
            </a:endParaRPr>
          </a:p>
        </p:txBody>
      </p:sp>
      <p:sp>
        <p:nvSpPr>
          <p:cNvPr id="100" name="PlaceHolder 2"/>
          <p:cNvSpPr>
            <a:spLocks noGrp="1"/>
          </p:cNvSpPr>
          <p:nvPr>
            <p:ph/>
          </p:nvPr>
        </p:nvSpPr>
        <p:spPr>
          <a:xfrm>
            <a:off x="609480" y="1599840"/>
            <a:ext cx="7772400" cy="4876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means that we have to keep a matrix in each bone that tells us how to transform the geometry back into the local space of the bone</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atrix should be the inverse of the matrix used to transform the bone from its local space into the character’s mesh, and given the orientation of the mesh without any animation applied.</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Times New Roman"/>
              </a:rPr>
              <a:t> </a:t>
            </a:r>
            <a:r>
              <a:rPr b="0" lang="en-US" sz="2800" spc="-1" strike="noStrike">
                <a:solidFill>
                  <a:srgbClr val="ffffff"/>
                </a:solidFill>
                <a:latin typeface="Times New Roman"/>
              </a:rPr>
              <a:t>Needed matrices : orientation, inverseorientation, animation, final </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Times New Roman"/>
              </a:rPr>
              <a:t> </a:t>
            </a:r>
            <a:r>
              <a:rPr b="0" lang="en-US" sz="2800" spc="-1" strike="noStrike">
                <a:solidFill>
                  <a:srgbClr val="ffffff"/>
                </a:solidFill>
                <a:latin typeface="Times New Roman"/>
              </a:rPr>
              <a:t>Needed bone pointers : child(hierarchy lower, depth), sibling(as linked list, widt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art to animate …</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process the bone hierarchy and generating a final transformation matrix for each bone concatenating the matrices we have kep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n recursively calculate other bones in the character’s skeletal structur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itching is a valid and quick method , but it would mot good when bent too muc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kinning </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improve the disadvantage of stitching, we can use a full system of skinning where a vertex is not to be limited by a single bone but by multiple bone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may say that stitching is a subset of skinning(a more general metho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ementation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the same as stitching but just assign multiple bones to an affected vertex and then give the bones weight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sult will be better but it will take much more expensive comput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5" name="x" descr=""/>
          <p:cNvPicPr/>
          <p:nvPr/>
        </p:nvPicPr>
        <p:blipFill>
          <a:blip r:embed="rId1"/>
          <a:stretch/>
        </p:blipFill>
        <p:spPr>
          <a:xfrm>
            <a:off x="609480" y="304920"/>
            <a:ext cx="6629400" cy="2149200"/>
          </a:xfrm>
          <a:prstGeom prst="rect">
            <a:avLst/>
          </a:prstGeom>
          <a:ln w="0">
            <a:noFill/>
          </a:ln>
        </p:spPr>
      </p:pic>
      <p:pic>
        <p:nvPicPr>
          <p:cNvPr id="106" name="1" descr=""/>
          <p:cNvPicPr/>
          <p:nvPr/>
        </p:nvPicPr>
        <p:blipFill>
          <a:blip r:embed="rId2"/>
          <a:stretch/>
        </p:blipFill>
        <p:spPr>
          <a:xfrm>
            <a:off x="4648320" y="2666880"/>
            <a:ext cx="4022640" cy="3943440"/>
          </a:xfrm>
          <a:prstGeom prst="rect">
            <a:avLst/>
          </a:prstGeom>
          <a:ln w="0">
            <a:noFill/>
          </a:ln>
        </p:spPr>
      </p:pic>
      <p:sp>
        <p:nvSpPr>
          <p:cNvPr id="107" name=""/>
          <p:cNvSpPr/>
          <p:nvPr/>
        </p:nvSpPr>
        <p:spPr>
          <a:xfrm>
            <a:off x="376200" y="2590920"/>
            <a:ext cx="39816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kinn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better under more condi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t its expensi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743200" y="5029200"/>
            <a:ext cx="1752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itching may wring when bent mu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9T03:56:38Z</dcterms:created>
  <dc:creator>crazier</dc:creator>
  <dc:description/>
  <dc:language>en-US</dc:language>
  <cp:lastModifiedBy>crazier</cp:lastModifiedBy>
  <dcterms:modified xsi:type="dcterms:W3CDTF">2002-04-19T07:48:31Z</dcterms:modified>
  <cp:revision>16</cp:revision>
  <dc:subject/>
  <dc:title>Game Programming Gems Section 4-15</dc:title>
</cp:coreProperties>
</file>