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6AB-6274-4CCF-BB4B-B24EEB5D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C41-57BC-4CB7-BA5B-C553DC1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8C1-4A61-458D-931D-B6147AA8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152-24ED-405F-B6E8-43EC4BD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7791-0653-48FF-84AE-87813D8D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7428-BEA2-4C44-BCF6-F3A1D85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A156-054D-4A6A-9CE7-FBE3C8D4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9BB-8C6C-48D3-B190-9FF9143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37A-2792-4FC4-A497-2B5369B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9FDC-194B-4082-89B7-6510CAE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2C8-D602-4689-B075-1953D11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0B-AC45-4D11-ABEB-8C5F0957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F79-67A1-446F-9B0D-A8323531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296-4AF1-470A-ACB9-F7B7B4B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A3AF-C165-4423-8CDE-1F697A8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160-6A43-46E5-8394-0E469672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8416-BA69-4D42-BA3E-B6B635D6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446-360C-498A-9234-E9661B69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213-C89D-44F5-9F02-78F6264C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78B-E8FB-4272-8C39-B1C9196F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F6C-CFD5-4D5D-ABCB-EABD585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B51-A9B5-4D3E-B7B0-74449E4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443-4C79-4E39-A219-C4DC835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A23-13AD-4A98-A8F6-B981736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BEA8-7DB7-4D12-94DB-3112F2BBB7E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199-9066-4944-99F0-6B820A9B587E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786950"/>
                </a:solidFill>
                <a:latin typeface="Times New Roman"/>
              </a:rPr>
              <a:t>口古月每週一報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Game Program&lt;Gems&gt;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3920" y="4038120"/>
            <a:ext cx="4418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86950"/>
                </a:solidFill>
                <a:latin typeface="Times New Roman"/>
              </a:rPr>
              <a:t>4.5 3D Collision Detection </a:t>
            </a:r>
            <a:endParaRPr b="0" lang="en-US" sz="29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86950"/>
                </a:solidFill>
                <a:latin typeface="Times New Roman"/>
              </a:rPr>
              <a:t>Ned.Dark.D</a:t>
            </a:r>
            <a:endParaRPr b="0" lang="en-US" sz="29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86950"/>
                </a:solidFill>
                <a:latin typeface="Times New Roman"/>
              </a:rPr>
              <a:t>2002.3.21</a:t>
            </a:r>
            <a:endParaRPr b="0" lang="en-US" sz="29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side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riangle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hard working to test if a 3D point is lie in a 3D triangle with 3 point and a plane Ax + By + Cz + D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you must test if a point is inside three triangle edge planes when you know it’s on triangle plan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Do :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angle Flatt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he triangle to a most possible orthogonal plane like xy , yz , xz plan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riangle Flatte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rop 1 coordinat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a inside detection in 2D coordinate is much eas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coordinate should be drop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most irrelevant coordinat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rop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ax value in triangle normal and drop that 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5280" y="1676520"/>
            <a:ext cx="7620120" cy="4952880"/>
            <a:chOff x="1295280" y="1676520"/>
            <a:chExt cx="7620120" cy="4952880"/>
          </a:xfrm>
        </p:grpSpPr>
        <p:sp>
          <p:nvSpPr>
            <p:cNvPr id="251" name=""/>
            <p:cNvSpPr/>
            <p:nvPr/>
          </p:nvSpPr>
          <p:spPr>
            <a:xfrm>
              <a:off x="1295280" y="1676520"/>
              <a:ext cx="7620120" cy="4952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38480" y="5638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Z plan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300000">
              <a:off x="4114440" y="2666880"/>
              <a:ext cx="316080" cy="2009880"/>
            </a:xfrm>
            <a:prstGeom prst="triangle">
              <a:avLst>
                <a:gd name="adj" fmla="val 43718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1066680" y="3962160"/>
              <a:ext cx="4876920" cy="457200"/>
            </a:xfrm>
            <a:prstGeom prst="parallelogram">
              <a:avLst>
                <a:gd name="adj" fmla="val 14267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5132520"/>
              <a:ext cx="6402600" cy="380880"/>
            </a:xfrm>
            <a:prstGeom prst="parallelogram">
              <a:avLst>
                <a:gd name="adj" fmla="val 495117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67080" y="3504960"/>
              <a:ext cx="3353040" cy="5331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480" y="22860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2(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pb , pc 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300000">
              <a:off x="3429000" y="2666880"/>
              <a:ext cx="152280" cy="1981440"/>
            </a:xfrm>
            <a:prstGeom prst="triangle">
              <a:avLst>
                <a:gd name="adj" fmla="val 43718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Z plan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504960" y="2666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0920" y="464832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657240" y="4038480"/>
              <a:ext cx="380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side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riangle ~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676520"/>
            <a:ext cx="7620120" cy="4952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5638680"/>
            <a:ext cx="3657600" cy="825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equation : y = mx + 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( y0-y1)/(x0-x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6" name="Imag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6228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1 vertex X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2 vertex X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1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-Plane Intersection 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op for 3 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riangle 2 to test on Triangle 1 plane , and find the collid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de Triangle 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op for collide point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lane to test in Triangle 1 ‘s flattening orthogonal plan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6600"/>
                </a:solidFill>
                <a:latin typeface="Times New Roman"/>
              </a:rPr>
              <a:t>預告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* Aesthetic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1 A Network Protocol for Online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is for realit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Do thi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Sphere 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-to-Triangle 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4600" y="4724280"/>
            <a:ext cx="2209680" cy="175284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Times New Roman"/>
              </a:rPr>
              <a:t>Bounding Sphere Collision Detection</a:t>
            </a:r>
            <a:endParaRPr b="0" lang="en-US" sz="3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enter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maximum distance between the center to a vertex in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adius of the tw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distance between the two center greater then summed radius , they don’t collid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35120" y="4732200"/>
            <a:ext cx="2079720" cy="1708200"/>
          </a:xfrm>
          <a:custGeom>
            <a:avLst/>
            <a:gdLst/>
            <a:ahLst/>
            <a:rect l="l" t="t" r="r" b="b"/>
            <a:pathLst>
              <a:path w="1310" h="1076">
                <a:moveTo>
                  <a:pt x="506" y="0"/>
                </a:moveTo>
                <a:cubicBezTo>
                  <a:pt x="475" y="31"/>
                  <a:pt x="427" y="91"/>
                  <a:pt x="387" y="118"/>
                </a:cubicBezTo>
                <a:cubicBezTo>
                  <a:pt x="365" y="152"/>
                  <a:pt x="335" y="175"/>
                  <a:pt x="314" y="210"/>
                </a:cubicBezTo>
                <a:cubicBezTo>
                  <a:pt x="291" y="247"/>
                  <a:pt x="261" y="282"/>
                  <a:pt x="241" y="320"/>
                </a:cubicBezTo>
                <a:cubicBezTo>
                  <a:pt x="235" y="332"/>
                  <a:pt x="231" y="346"/>
                  <a:pt x="222" y="356"/>
                </a:cubicBezTo>
                <a:cubicBezTo>
                  <a:pt x="212" y="368"/>
                  <a:pt x="197" y="373"/>
                  <a:pt x="186" y="384"/>
                </a:cubicBezTo>
                <a:cubicBezTo>
                  <a:pt x="129" y="441"/>
                  <a:pt x="174" y="421"/>
                  <a:pt x="122" y="438"/>
                </a:cubicBezTo>
                <a:cubicBezTo>
                  <a:pt x="86" y="476"/>
                  <a:pt x="59" y="521"/>
                  <a:pt x="21" y="557"/>
                </a:cubicBezTo>
                <a:cubicBezTo>
                  <a:pt x="8" y="597"/>
                  <a:pt x="0" y="607"/>
                  <a:pt x="30" y="658"/>
                </a:cubicBezTo>
                <a:cubicBezTo>
                  <a:pt x="45" y="684"/>
                  <a:pt x="77" y="697"/>
                  <a:pt x="94" y="722"/>
                </a:cubicBezTo>
                <a:cubicBezTo>
                  <a:pt x="141" y="789"/>
                  <a:pt x="255" y="879"/>
                  <a:pt x="332" y="905"/>
                </a:cubicBezTo>
                <a:cubicBezTo>
                  <a:pt x="377" y="936"/>
                  <a:pt x="435" y="988"/>
                  <a:pt x="488" y="1005"/>
                </a:cubicBezTo>
                <a:cubicBezTo>
                  <a:pt x="555" y="1076"/>
                  <a:pt x="506" y="1034"/>
                  <a:pt x="725" y="1014"/>
                </a:cubicBezTo>
                <a:cubicBezTo>
                  <a:pt x="801" y="1007"/>
                  <a:pt x="835" y="987"/>
                  <a:pt x="908" y="969"/>
                </a:cubicBezTo>
                <a:cubicBezTo>
                  <a:pt x="922" y="965"/>
                  <a:pt x="997" y="955"/>
                  <a:pt x="1027" y="941"/>
                </a:cubicBezTo>
                <a:cubicBezTo>
                  <a:pt x="1101" y="908"/>
                  <a:pt x="1167" y="870"/>
                  <a:pt x="1246" y="850"/>
                </a:cubicBezTo>
                <a:cubicBezTo>
                  <a:pt x="1274" y="823"/>
                  <a:pt x="1287" y="830"/>
                  <a:pt x="1310" y="795"/>
                </a:cubicBezTo>
                <a:cubicBezTo>
                  <a:pt x="1307" y="782"/>
                  <a:pt x="1301" y="738"/>
                  <a:pt x="1292" y="722"/>
                </a:cubicBezTo>
                <a:cubicBezTo>
                  <a:pt x="1264" y="671"/>
                  <a:pt x="1218" y="627"/>
                  <a:pt x="1192" y="576"/>
                </a:cubicBezTo>
                <a:cubicBezTo>
                  <a:pt x="1156" y="505"/>
                  <a:pt x="1153" y="421"/>
                  <a:pt x="1109" y="356"/>
                </a:cubicBezTo>
                <a:cubicBezTo>
                  <a:pt x="993" y="363"/>
                  <a:pt x="894" y="383"/>
                  <a:pt x="780" y="393"/>
                </a:cubicBezTo>
                <a:cubicBezTo>
                  <a:pt x="749" y="345"/>
                  <a:pt x="771" y="284"/>
                  <a:pt x="744" y="246"/>
                </a:cubicBezTo>
                <a:cubicBezTo>
                  <a:pt x="722" y="214"/>
                  <a:pt x="689" y="192"/>
                  <a:pt x="661" y="164"/>
                </a:cubicBezTo>
                <a:cubicBezTo>
                  <a:pt x="620" y="123"/>
                  <a:pt x="665" y="135"/>
                  <a:pt x="625" y="100"/>
                </a:cubicBezTo>
                <a:cubicBezTo>
                  <a:pt x="609" y="86"/>
                  <a:pt x="585" y="80"/>
                  <a:pt x="570" y="64"/>
                </a:cubicBezTo>
                <a:cubicBezTo>
                  <a:pt x="561" y="55"/>
                  <a:pt x="543" y="35"/>
                  <a:pt x="533" y="27"/>
                </a:cubicBezTo>
                <a:cubicBezTo>
                  <a:pt x="504" y="4"/>
                  <a:pt x="506" y="21"/>
                  <a:pt x="506" y="0"/>
                </a:cubicBez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429000" y="5410080"/>
            <a:ext cx="380880" cy="381240"/>
            <a:chOff x="3429000" y="5410080"/>
            <a:chExt cx="380880" cy="381240"/>
          </a:xfrm>
        </p:grpSpPr>
        <p:sp>
          <p:nvSpPr>
            <p:cNvPr id="92" name=""/>
            <p:cNvSpPr/>
            <p:nvPr/>
          </p:nvSpPr>
          <p:spPr>
            <a:xfrm>
              <a:off x="3429000" y="5486400"/>
              <a:ext cx="380880" cy="3049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504960" y="5410080"/>
              <a:ext cx="228600" cy="381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3352320" y="4724280"/>
            <a:ext cx="228600" cy="914400"/>
          </a:xfrm>
          <a:prstGeom prst="line">
            <a:avLst/>
          </a:prstGeom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81280" y="4640400"/>
            <a:ext cx="4322880" cy="1752480"/>
            <a:chOff x="3581280" y="4640400"/>
            <a:chExt cx="4322880" cy="1752480"/>
          </a:xfrm>
        </p:grpSpPr>
        <p:sp>
          <p:nvSpPr>
            <p:cNvPr id="96" name=""/>
            <p:cNvSpPr/>
            <p:nvPr/>
          </p:nvSpPr>
          <p:spPr>
            <a:xfrm>
              <a:off x="5694480" y="4640400"/>
              <a:ext cx="2209680" cy="1752480"/>
            </a:xfrm>
            <a:prstGeom prst="ellipse">
              <a:avLst/>
            </a:prstGeom>
            <a:solidFill>
              <a:srgbClr val="c0c0c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4648320"/>
              <a:ext cx="2079720" cy="1708200"/>
            </a:xfrm>
            <a:custGeom>
              <a:avLst/>
              <a:gdLst/>
              <a:ahLst/>
              <a:rect l="l" t="t" r="r" b="b"/>
              <a:pathLst>
                <a:path w="1310" h="1076">
                  <a:moveTo>
                    <a:pt x="506" y="0"/>
                  </a:moveTo>
                  <a:cubicBezTo>
                    <a:pt x="475" y="31"/>
                    <a:pt x="427" y="91"/>
                    <a:pt x="387" y="118"/>
                  </a:cubicBezTo>
                  <a:cubicBezTo>
                    <a:pt x="365" y="152"/>
                    <a:pt x="335" y="175"/>
                    <a:pt x="314" y="210"/>
                  </a:cubicBezTo>
                  <a:cubicBezTo>
                    <a:pt x="291" y="247"/>
                    <a:pt x="261" y="282"/>
                    <a:pt x="241" y="320"/>
                  </a:cubicBezTo>
                  <a:cubicBezTo>
                    <a:pt x="235" y="332"/>
                    <a:pt x="231" y="346"/>
                    <a:pt x="222" y="356"/>
                  </a:cubicBezTo>
                  <a:cubicBezTo>
                    <a:pt x="212" y="368"/>
                    <a:pt x="197" y="373"/>
                    <a:pt x="186" y="384"/>
                  </a:cubicBezTo>
                  <a:cubicBezTo>
                    <a:pt x="129" y="441"/>
                    <a:pt x="174" y="421"/>
                    <a:pt x="122" y="438"/>
                  </a:cubicBezTo>
                  <a:cubicBezTo>
                    <a:pt x="86" y="476"/>
                    <a:pt x="59" y="521"/>
                    <a:pt x="21" y="557"/>
                  </a:cubicBezTo>
                  <a:cubicBezTo>
                    <a:pt x="8" y="597"/>
                    <a:pt x="0" y="607"/>
                    <a:pt x="30" y="658"/>
                  </a:cubicBezTo>
                  <a:cubicBezTo>
                    <a:pt x="45" y="684"/>
                    <a:pt x="77" y="697"/>
                    <a:pt x="94" y="722"/>
                  </a:cubicBezTo>
                  <a:cubicBezTo>
                    <a:pt x="141" y="789"/>
                    <a:pt x="255" y="879"/>
                    <a:pt x="332" y="905"/>
                  </a:cubicBezTo>
                  <a:cubicBezTo>
                    <a:pt x="377" y="936"/>
                    <a:pt x="435" y="988"/>
                    <a:pt x="488" y="1005"/>
                  </a:cubicBezTo>
                  <a:cubicBezTo>
                    <a:pt x="555" y="1076"/>
                    <a:pt x="506" y="1034"/>
                    <a:pt x="725" y="1014"/>
                  </a:cubicBezTo>
                  <a:cubicBezTo>
                    <a:pt x="801" y="1007"/>
                    <a:pt x="835" y="987"/>
                    <a:pt x="908" y="969"/>
                  </a:cubicBezTo>
                  <a:cubicBezTo>
                    <a:pt x="922" y="965"/>
                    <a:pt x="997" y="955"/>
                    <a:pt x="1027" y="941"/>
                  </a:cubicBezTo>
                  <a:cubicBezTo>
                    <a:pt x="1101" y="908"/>
                    <a:pt x="1167" y="870"/>
                    <a:pt x="1246" y="850"/>
                  </a:cubicBezTo>
                  <a:cubicBezTo>
                    <a:pt x="1274" y="823"/>
                    <a:pt x="1287" y="830"/>
                    <a:pt x="1310" y="795"/>
                  </a:cubicBezTo>
                  <a:cubicBezTo>
                    <a:pt x="1307" y="782"/>
                    <a:pt x="1301" y="738"/>
                    <a:pt x="1292" y="722"/>
                  </a:cubicBezTo>
                  <a:cubicBezTo>
                    <a:pt x="1264" y="671"/>
                    <a:pt x="1218" y="627"/>
                    <a:pt x="1192" y="576"/>
                  </a:cubicBezTo>
                  <a:cubicBezTo>
                    <a:pt x="1156" y="505"/>
                    <a:pt x="1153" y="421"/>
                    <a:pt x="1109" y="356"/>
                  </a:cubicBezTo>
                  <a:cubicBezTo>
                    <a:pt x="993" y="363"/>
                    <a:pt x="894" y="383"/>
                    <a:pt x="780" y="393"/>
                  </a:cubicBezTo>
                  <a:cubicBezTo>
                    <a:pt x="749" y="345"/>
                    <a:pt x="771" y="284"/>
                    <a:pt x="744" y="246"/>
                  </a:cubicBezTo>
                  <a:cubicBezTo>
                    <a:pt x="722" y="214"/>
                    <a:pt x="689" y="192"/>
                    <a:pt x="661" y="164"/>
                  </a:cubicBezTo>
                  <a:cubicBezTo>
                    <a:pt x="620" y="123"/>
                    <a:pt x="665" y="135"/>
                    <a:pt x="625" y="100"/>
                  </a:cubicBezTo>
                  <a:cubicBezTo>
                    <a:pt x="609" y="86"/>
                    <a:pt x="585" y="80"/>
                    <a:pt x="570" y="64"/>
                  </a:cubicBezTo>
                  <a:cubicBezTo>
                    <a:pt x="561" y="55"/>
                    <a:pt x="543" y="35"/>
                    <a:pt x="533" y="27"/>
                  </a:cubicBezTo>
                  <a:cubicBezTo>
                    <a:pt x="504" y="4"/>
                    <a:pt x="506" y="21"/>
                    <a:pt x="506" y="0"/>
                  </a:cubicBezTo>
                  <a:close/>
                </a:path>
              </a:pathLst>
            </a:custGeom>
            <a:solidFill>
              <a:srgbClr val="727de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608880" y="5326200"/>
              <a:ext cx="380880" cy="380880"/>
              <a:chOff x="6608880" y="5326200"/>
              <a:chExt cx="38088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6608880" y="5402160"/>
                <a:ext cx="380880" cy="3045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684840" y="5326200"/>
                <a:ext cx="228600" cy="38088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 flipV="1">
              <a:off x="6532200" y="4640400"/>
              <a:ext cx="228600" cy="914400"/>
            </a:xfrm>
            <a:prstGeom prst="line">
              <a:avLst/>
            </a:prstGeom>
            <a:ln cap="sq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5410080"/>
              <a:ext cx="1143000" cy="0"/>
            </a:xfrm>
            <a:prstGeom prst="line">
              <a:avLst/>
            </a:prstGeom>
            <a:ln cap="sq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0600" y="5410080"/>
              <a:ext cx="1143000" cy="0"/>
            </a:xfrm>
            <a:prstGeom prst="line">
              <a:avLst/>
            </a:prstGeom>
            <a:ln cap="sq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>
            <a:off x="3657600" y="5562720"/>
            <a:ext cx="3200400" cy="75960"/>
          </a:xfrm>
          <a:prstGeom prst="line">
            <a:avLst/>
          </a:prstGeom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Times New Roman"/>
              </a:rPr>
              <a:t>Bounding Sphere Collision Detection</a:t>
            </a:r>
            <a:br>
              <a:rPr sz="3800"/>
            </a:br>
            <a:r>
              <a:rPr b="0" lang="en-US" sz="3800" spc="-1" strike="noStrike">
                <a:solidFill>
                  <a:srgbClr val="996600"/>
                </a:solidFill>
                <a:latin typeface="Times New Roman"/>
              </a:rPr>
              <a:t>(cont.)</a:t>
            </a:r>
            <a:endParaRPr b="0" lang="en-US" sz="3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dpo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and maximum x , y , and z for entire objec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 all vertices and and check their distance to cent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Triangle 1’s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riangle 2’s edge 1 , 2 , 3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lide with Triangle 1’s pl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sting 4.5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me edges are collide with the plane , check if the collide point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ide the Tri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’s 3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Triangle 2’s edges are collide with Triangle 1’s plane or no edges are inside the Triangle 1 , then it’s not collis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br>
              <a:rPr sz="3000"/>
            </a:br>
            <a:r>
              <a:rPr b="1" lang="en-US" sz="3000" spc="-1" strike="noStrike">
                <a:solidFill>
                  <a:srgbClr val="996600"/>
                </a:solidFill>
                <a:latin typeface="Times New Roman"/>
              </a:rPr>
              <a:t>-- Find the plane equation of one of the triangles</a:t>
            </a:r>
            <a:endParaRPr b="0" lang="en-US" sz="3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oint a , b , c form a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 = a-&gt;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 = a-&gt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XV2  = ( A , B , C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-  (V1XV2) dot P(x0,y0,z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 equation Ax + By + Cz + D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86200" y="6400800"/>
            <a:ext cx="2209680" cy="231840"/>
            <a:chOff x="3886200" y="6400800"/>
            <a:chExt cx="2209680" cy="231840"/>
          </a:xfrm>
        </p:grpSpPr>
        <p:sp>
          <p:nvSpPr>
            <p:cNvPr id="112" name=""/>
            <p:cNvSpPr/>
            <p:nvPr/>
          </p:nvSpPr>
          <p:spPr>
            <a:xfrm>
              <a:off x="3886200" y="6553080"/>
              <a:ext cx="220968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495680" y="6400800"/>
              <a:ext cx="24768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d54f41"/>
                    </a:solidFill>
                    <a:miter/>
                  </a:ln>
                  <a:solidFill>
                    <a:srgbClr val="d54f41"/>
                  </a:solidFill>
                  <a:latin typeface="MS Gothic"/>
                </a:rPr>
                <a:t>V2</a:t>
              </a:r>
              <a:endParaRPr b="0" lang="en-US" sz="1800" spc="1" strike="noStrike">
                <a:ln cap="sq" w="9360">
                  <a:solidFill>
                    <a:srgbClr val="d54f41"/>
                  </a:solidFill>
                  <a:miter/>
                </a:ln>
                <a:solidFill>
                  <a:srgbClr val="d54f41"/>
                </a:solidFill>
                <a:latin typeface="MS Gothic"/>
                <a:ea typeface="MS Gothic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971800" y="4952520"/>
            <a:ext cx="247680" cy="1219320"/>
            <a:chOff x="2971800" y="4952520"/>
            <a:chExt cx="247680" cy="1219320"/>
          </a:xfrm>
        </p:grpSpPr>
        <p:sp>
          <p:nvSpPr>
            <p:cNvPr id="115" name=""/>
            <p:cNvSpPr/>
            <p:nvPr/>
          </p:nvSpPr>
          <p:spPr>
            <a:xfrm flipV="1">
              <a:off x="3200400" y="4952520"/>
              <a:ext cx="0" cy="12193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971800" y="5410080"/>
              <a:ext cx="24768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d54f41"/>
                    </a:solidFill>
                    <a:miter/>
                  </a:ln>
                  <a:solidFill>
                    <a:srgbClr val="d54f41"/>
                  </a:solidFill>
                  <a:latin typeface="MS Gothic"/>
                </a:rPr>
                <a:t>V1</a:t>
              </a:r>
              <a:endParaRPr b="0" lang="en-US" sz="1800" spc="1" strike="noStrike">
                <a:ln cap="sq" w="9360">
                  <a:solidFill>
                    <a:srgbClr val="d54f41"/>
                  </a:solidFill>
                  <a:miter/>
                </a:ln>
                <a:solidFill>
                  <a:srgbClr val="d54f41"/>
                </a:solidFill>
                <a:latin typeface="MS Gothic"/>
                <a:ea typeface="MS Gothic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4495680"/>
            <a:ext cx="1523880" cy="1828800"/>
            <a:chOff x="1676160" y="4495680"/>
            <a:chExt cx="1523880" cy="1828800"/>
          </a:xfrm>
        </p:grpSpPr>
        <p:sp>
          <p:nvSpPr>
            <p:cNvPr id="118" name=""/>
            <p:cNvSpPr/>
            <p:nvPr/>
          </p:nvSpPr>
          <p:spPr>
            <a:xfrm flipH="1" flipV="1">
              <a:off x="1676160" y="4495680"/>
              <a:ext cx="1523880" cy="18288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828800" y="5562720"/>
              <a:ext cx="780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d54f41"/>
                    </a:solidFill>
                    <a:miter/>
                  </a:ln>
                  <a:solidFill>
                    <a:srgbClr val="d54f41"/>
                  </a:solidFill>
                  <a:latin typeface="MS Gothic"/>
                </a:rPr>
                <a:t>V1 X V2</a:t>
              </a:r>
              <a:endParaRPr b="0" lang="en-US" sz="1800" spc="1" strike="noStrike">
                <a:ln cap="sq" w="9360">
                  <a:solidFill>
                    <a:srgbClr val="d54f41"/>
                  </a:solidFill>
                  <a:miter/>
                </a:ln>
                <a:solidFill>
                  <a:srgbClr val="d54f41"/>
                </a:solidFill>
                <a:latin typeface="MS Gothic"/>
                <a:ea typeface="MS Gothic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5029200" y="4572000"/>
            <a:ext cx="36576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786950"/>
                </a:solidFill>
                <a:latin typeface="MS Gothic"/>
              </a:rPr>
              <a:t>Ax + By + Cz + D = 0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786950"/>
              </a:solidFill>
              <a:latin typeface="MS Gothic"/>
              <a:ea typeface="MS Gothic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00400" y="4572000"/>
            <a:ext cx="3676680" cy="1984320"/>
            <a:chOff x="3200400" y="4572000"/>
            <a:chExt cx="3676680" cy="1984320"/>
          </a:xfrm>
        </p:grpSpPr>
        <p:sp>
          <p:nvSpPr>
            <p:cNvPr id="122" name=""/>
            <p:cNvSpPr/>
            <p:nvPr/>
          </p:nvSpPr>
          <p:spPr>
            <a:xfrm>
              <a:off x="3352680" y="4724280"/>
              <a:ext cx="3353040" cy="1676520"/>
            </a:xfrm>
            <a:prstGeom prst="rtTriangl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1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200400" y="6324480"/>
              <a:ext cx="24768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</a:rPr>
                <a:t>a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S Gothic"/>
                <a:ea typeface="MS Gothic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00400" y="4572000"/>
              <a:ext cx="24768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</a:rPr>
                <a:t>b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S Gothic"/>
                <a:ea typeface="MS Gothic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629400" y="6324480"/>
              <a:ext cx="24768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</a:rPr>
                <a:t>c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S Gothic"/>
                <a:ea typeface="MS Gothic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57600" y="5410080"/>
            <a:ext cx="380880" cy="457200"/>
            <a:chOff x="3657600" y="5410080"/>
            <a:chExt cx="380880" cy="457200"/>
          </a:xfrm>
        </p:grpSpPr>
        <p:sp>
          <p:nvSpPr>
            <p:cNvPr id="127" name=""/>
            <p:cNvSpPr txBox="1"/>
            <p:nvPr/>
          </p:nvSpPr>
          <p:spPr>
            <a:xfrm>
              <a:off x="3733560" y="5410080"/>
              <a:ext cx="24732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</a:rPr>
                <a:t>p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S Gothic"/>
                <a:ea typeface="MS Gothic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57600" y="5486400"/>
              <a:ext cx="380880" cy="380880"/>
              <a:chOff x="3657600" y="5486400"/>
              <a:chExt cx="380880" cy="380880"/>
            </a:xfrm>
          </p:grpSpPr>
          <p:sp>
            <p:nvSpPr>
              <p:cNvPr id="129" name=""/>
              <p:cNvSpPr/>
              <p:nvPr/>
            </p:nvSpPr>
            <p:spPr>
              <a:xfrm>
                <a:off x="3657600" y="5562360"/>
                <a:ext cx="380880" cy="30456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733560" y="5486400"/>
                <a:ext cx="228600" cy="38088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riangle-to-Triangle Collision Dete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ne-Plane Intersec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if Triangle 2 collide with triangle1’s plan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vertices of Triangle 2’s edge form a line , and see what point on this line collide with the plan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hav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52480" y="5638680"/>
            <a:ext cx="7010280" cy="840600"/>
            <a:chOff x="1752480" y="5638680"/>
            <a:chExt cx="7010280" cy="840600"/>
          </a:xfrm>
        </p:grpSpPr>
        <p:sp>
          <p:nvSpPr>
            <p:cNvPr id="136" name=""/>
            <p:cNvSpPr/>
            <p:nvPr/>
          </p:nvSpPr>
          <p:spPr>
            <a:xfrm>
              <a:off x="2361960" y="5638680"/>
              <a:ext cx="6400800" cy="228600"/>
            </a:xfrm>
            <a:prstGeom prst="rtTriangl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601956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riangle plane Ax + By + Cz + D = 0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8" name=""/>
          <p:cNvSpPr/>
          <p:nvPr/>
        </p:nvSpPr>
        <p:spPr>
          <a:xfrm rot="3600000">
            <a:off x="2933640" y="2019240"/>
            <a:ext cx="1981080" cy="2209680"/>
          </a:xfrm>
          <a:prstGeom prst="triangle">
            <a:avLst>
              <a:gd name="adj" fmla="val 79454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2320" y="2362320"/>
            <a:ext cx="2514600" cy="532800"/>
            <a:chOff x="2362320" y="2362320"/>
            <a:chExt cx="2514600" cy="532800"/>
          </a:xfrm>
        </p:grpSpPr>
        <p:sp>
          <p:nvSpPr>
            <p:cNvPr id="140" name=""/>
            <p:cNvSpPr/>
            <p:nvPr/>
          </p:nvSpPr>
          <p:spPr>
            <a:xfrm>
              <a:off x="2362320" y="2742840"/>
              <a:ext cx="152640" cy="152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23623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( x0 , y0 , z0 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29000" y="4343400"/>
            <a:ext cx="2666880" cy="459720"/>
            <a:chOff x="3429000" y="4343400"/>
            <a:chExt cx="2666880" cy="459720"/>
          </a:xfrm>
        </p:grpSpPr>
        <p:sp>
          <p:nvSpPr>
            <p:cNvPr id="143" name=""/>
            <p:cNvSpPr/>
            <p:nvPr/>
          </p:nvSpPr>
          <p:spPr>
            <a:xfrm>
              <a:off x="3429000" y="4419720"/>
              <a:ext cx="152280" cy="152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43434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( x0 , y0 , z0 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505320" y="4648320"/>
            <a:ext cx="76176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62520" y="5562720"/>
            <a:ext cx="380880" cy="380880"/>
            <a:chOff x="3962520" y="5562720"/>
            <a:chExt cx="380880" cy="380880"/>
          </a:xfrm>
        </p:grpSpPr>
        <p:sp>
          <p:nvSpPr>
            <p:cNvPr id="147" name=""/>
            <p:cNvSpPr/>
            <p:nvPr/>
          </p:nvSpPr>
          <p:spPr>
            <a:xfrm>
              <a:off x="3962520" y="5638680"/>
              <a:ext cx="380880" cy="304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8480" y="5562720"/>
              <a:ext cx="228600" cy="380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371600" y="304920"/>
            <a:ext cx="7772400" cy="6553080"/>
            <a:chOff x="1371600" y="304920"/>
            <a:chExt cx="7772400" cy="6553080"/>
          </a:xfrm>
        </p:grpSpPr>
        <p:sp>
          <p:nvSpPr>
            <p:cNvPr id="150" name=""/>
            <p:cNvSpPr/>
            <p:nvPr/>
          </p:nvSpPr>
          <p:spPr>
            <a:xfrm>
              <a:off x="1371600" y="304920"/>
              <a:ext cx="7772400" cy="6553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676520" y="5029200"/>
              <a:ext cx="7010280" cy="840600"/>
              <a:chOff x="1676520" y="5029200"/>
              <a:chExt cx="7010280" cy="840600"/>
            </a:xfrm>
          </p:grpSpPr>
          <p:sp>
            <p:nvSpPr>
              <p:cNvPr id="152" name=""/>
              <p:cNvSpPr/>
              <p:nvPr/>
            </p:nvSpPr>
            <p:spPr>
              <a:xfrm>
                <a:off x="2286000" y="5029200"/>
                <a:ext cx="6400800" cy="228600"/>
              </a:xfrm>
              <a:prstGeom prst="rtTriangl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76520" y="5410080"/>
                <a:ext cx="556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triangle plane Ax + By + Cz + D = 0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3600000">
              <a:off x="2857320" y="1409400"/>
              <a:ext cx="1981440" cy="2209680"/>
            </a:xfrm>
            <a:prstGeom prst="triangle">
              <a:avLst>
                <a:gd name="adj" fmla="val 79454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2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286000" y="1752480"/>
              <a:ext cx="2514600" cy="533520"/>
              <a:chOff x="2286000" y="1752480"/>
              <a:chExt cx="2514600" cy="533520"/>
            </a:xfrm>
          </p:grpSpPr>
          <p:sp>
            <p:nvSpPr>
              <p:cNvPr id="156" name=""/>
              <p:cNvSpPr/>
              <p:nvPr/>
            </p:nvSpPr>
            <p:spPr>
              <a:xfrm>
                <a:off x="2286000" y="213336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86000" y="1752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( x0 , y0 , z0 )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352680" y="3733920"/>
              <a:ext cx="2667240" cy="459720"/>
              <a:chOff x="3352680" y="3733920"/>
              <a:chExt cx="2667240" cy="459720"/>
            </a:xfrm>
          </p:grpSpPr>
          <p:sp>
            <p:nvSpPr>
              <p:cNvPr id="159" name=""/>
              <p:cNvSpPr/>
              <p:nvPr/>
            </p:nvSpPr>
            <p:spPr>
              <a:xfrm>
                <a:off x="3352680" y="38098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5320" y="37339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 ( x0 , y0 , z0 )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429000" y="4038480"/>
              <a:ext cx="76212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886200" y="4952880"/>
              <a:ext cx="380880" cy="381240"/>
              <a:chOff x="3886200" y="4952880"/>
              <a:chExt cx="380880" cy="381240"/>
            </a:xfrm>
          </p:grpSpPr>
          <p:sp>
            <p:nvSpPr>
              <p:cNvPr id="163" name=""/>
              <p:cNvSpPr/>
              <p:nvPr/>
            </p:nvSpPr>
            <p:spPr>
              <a:xfrm>
                <a:off x="3886200" y="5029200"/>
                <a:ext cx="380880" cy="30492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962160" y="4952880"/>
                <a:ext cx="228600" cy="38124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76520" y="6858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to describe?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47920" y="5486400"/>
            <a:ext cx="7467480" cy="161856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on a-b line also on triang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 x0(t) +x1(1-t) ) + B( y0(t) +y1(1-t) ) + C( z0(t) +z1(1-t) ) + D = 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- ( A*x1 + B*y1 +C*z1 + D ) / A*(x0-x1) + B*(y0-y1) + C*(z0-z1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71600" y="304920"/>
            <a:ext cx="7772400" cy="6553080"/>
            <a:chOff x="1371600" y="304920"/>
            <a:chExt cx="7772400" cy="6553080"/>
          </a:xfrm>
        </p:grpSpPr>
        <p:grpSp>
          <p:nvGrpSpPr>
            <p:cNvPr id="168" name=""/>
            <p:cNvGrpSpPr/>
            <p:nvPr/>
          </p:nvGrpSpPr>
          <p:grpSpPr>
            <a:xfrm>
              <a:off x="1371600" y="304920"/>
              <a:ext cx="7772400" cy="6553080"/>
              <a:chOff x="1371600" y="304920"/>
              <a:chExt cx="7772400" cy="655308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304920"/>
                <a:ext cx="7772400" cy="65530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676520" y="5029200"/>
                <a:ext cx="7010280" cy="840600"/>
                <a:chOff x="1676520" y="5029200"/>
                <a:chExt cx="7010280" cy="8406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86000" y="5029200"/>
                  <a:ext cx="6400800" cy="228600"/>
                </a:xfrm>
                <a:prstGeom prst="rtTriangle">
                  <a:avLst/>
                </a:prstGeom>
                <a:solidFill>
                  <a:srgbClr val="727de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676520" y="5410080"/>
                  <a:ext cx="556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triangle plane Ax + By + Cz + D =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 rot="3600000">
                <a:off x="2857320" y="1409400"/>
                <a:ext cx="1981440" cy="2209680"/>
              </a:xfrm>
              <a:prstGeom prst="triangle">
                <a:avLst>
                  <a:gd name="adj" fmla="val 79454"/>
                </a:avLst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i2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2286000" y="1752480"/>
                <a:ext cx="2514600" cy="533520"/>
                <a:chOff x="2286000" y="1752480"/>
                <a:chExt cx="2514600" cy="5335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86000" y="2133360"/>
                  <a:ext cx="152640" cy="15264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286000" y="1752480"/>
                  <a:ext cx="251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( x0 , y0 , z0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352680" y="3733920"/>
                <a:ext cx="2667240" cy="459720"/>
                <a:chOff x="3352680" y="3733920"/>
                <a:chExt cx="2667240" cy="4597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52680" y="3809880"/>
                  <a:ext cx="152640" cy="15264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05320" y="3733920"/>
                  <a:ext cx="251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 ( x0 , y0 , z0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3429000" y="4038480"/>
                <a:ext cx="76212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886200" y="4952880"/>
                <a:ext cx="380880" cy="381240"/>
                <a:chOff x="3886200" y="4952880"/>
                <a:chExt cx="380880" cy="381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86200" y="5029200"/>
                  <a:ext cx="380880" cy="304920"/>
                </a:xfrm>
                <a:prstGeom prst="line">
                  <a:avLst/>
                </a:prstGeom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962160" y="4952880"/>
                  <a:ext cx="228600" cy="381240"/>
                </a:xfrm>
                <a:prstGeom prst="line">
                  <a:avLst/>
                </a:prstGeom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676520" y="6858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w to describe?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133720" y="4800600"/>
              <a:ext cx="4876560" cy="1618200"/>
              <a:chOff x="2133720" y="4800600"/>
              <a:chExt cx="4876560" cy="1618200"/>
            </a:xfrm>
          </p:grpSpPr>
          <p:sp>
            <p:nvSpPr>
              <p:cNvPr id="186" name=""/>
              <p:cNvSpPr/>
              <p:nvPr/>
            </p:nvSpPr>
            <p:spPr>
              <a:xfrm>
                <a:off x="2133720" y="6019920"/>
                <a:ext cx="4876560" cy="398880"/>
              </a:xfrm>
              <a:prstGeom prst="rect">
                <a:avLst/>
              </a:prstGeom>
              <a:solidFill>
                <a:srgbClr val="e9e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hen t been solved , p( xt , yt , zt ) can be set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3962520" y="4800600"/>
                <a:ext cx="247680" cy="457200"/>
                <a:chOff x="3962520" y="4800600"/>
                <a:chExt cx="247680" cy="457200"/>
              </a:xfrm>
            </p:grpSpPr>
            <p:sp>
              <p:nvSpPr>
                <p:cNvPr id="188" name=""/>
                <p:cNvSpPr txBox="1"/>
                <p:nvPr/>
              </p:nvSpPr>
              <p:spPr>
                <a:xfrm>
                  <a:off x="3962520" y="4800600"/>
                  <a:ext cx="247680" cy="231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MS Gothic"/>
                    </a:rPr>
                    <a:t>p</a:t>
                  </a:r>
                  <a:endPara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MS Gothic"/>
                    <a:ea typeface="MS Gothic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62520" y="51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3657600" y="457200"/>
            <a:ext cx="5105520" cy="4267080"/>
            <a:chOff x="3657600" y="457200"/>
            <a:chExt cx="5105520" cy="4267080"/>
          </a:xfrm>
        </p:grpSpPr>
        <p:sp>
          <p:nvSpPr>
            <p:cNvPr id="191" name=""/>
            <p:cNvSpPr/>
            <p:nvPr/>
          </p:nvSpPr>
          <p:spPr>
            <a:xfrm>
              <a:off x="5334120" y="457200"/>
              <a:ext cx="3429000" cy="2288520"/>
            </a:xfrm>
            <a:prstGeom prst="rect">
              <a:avLst/>
            </a:prstGeom>
            <a:solidFill>
              <a:srgbClr val="e9e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 on ab line equation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( 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0(t) +x1(1-t) , 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0(t) +y1(1-t) , 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0(t) +z1(1-t)  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657600" y="4267080"/>
              <a:ext cx="247680" cy="457200"/>
              <a:chOff x="3657600" y="4267080"/>
              <a:chExt cx="247680" cy="457200"/>
            </a:xfrm>
          </p:grpSpPr>
          <p:sp>
            <p:nvSpPr>
              <p:cNvPr id="193" name=""/>
              <p:cNvSpPr txBox="1"/>
              <p:nvPr/>
            </p:nvSpPr>
            <p:spPr>
              <a:xfrm>
                <a:off x="3657600" y="4267080"/>
                <a:ext cx="247680" cy="23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MS Gothic"/>
                  </a:rPr>
                  <a:t>p</a:t>
                </a:r>
                <a:endPara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  <a:ea typeface="MS Gothic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57600" y="4572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371600" y="304920"/>
            <a:ext cx="7772400" cy="6553080"/>
            <a:chOff x="1371600" y="304920"/>
            <a:chExt cx="7772400" cy="6553080"/>
          </a:xfrm>
        </p:grpSpPr>
        <p:sp>
          <p:nvSpPr>
            <p:cNvPr id="196" name=""/>
            <p:cNvSpPr/>
            <p:nvPr/>
          </p:nvSpPr>
          <p:spPr>
            <a:xfrm>
              <a:off x="1371600" y="304920"/>
              <a:ext cx="7772400" cy="6553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676520" y="5029200"/>
              <a:ext cx="7010280" cy="840600"/>
              <a:chOff x="1676520" y="5029200"/>
              <a:chExt cx="7010280" cy="840600"/>
            </a:xfrm>
          </p:grpSpPr>
          <p:sp>
            <p:nvSpPr>
              <p:cNvPr id="198" name=""/>
              <p:cNvSpPr/>
              <p:nvPr/>
            </p:nvSpPr>
            <p:spPr>
              <a:xfrm>
                <a:off x="2286000" y="5029200"/>
                <a:ext cx="6400800" cy="228600"/>
              </a:xfrm>
              <a:prstGeom prst="rtTriangl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76520" y="5410080"/>
                <a:ext cx="556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triangle plane Ax + By + Cz + D = 0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3600000">
              <a:off x="2857320" y="1409400"/>
              <a:ext cx="1981440" cy="2209680"/>
            </a:xfrm>
            <a:prstGeom prst="triangle">
              <a:avLst>
                <a:gd name="adj" fmla="val 79454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2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286000" y="1752480"/>
              <a:ext cx="2514600" cy="533520"/>
              <a:chOff x="2286000" y="1752480"/>
              <a:chExt cx="2514600" cy="533520"/>
            </a:xfrm>
          </p:grpSpPr>
          <p:sp>
            <p:nvSpPr>
              <p:cNvPr id="202" name=""/>
              <p:cNvSpPr/>
              <p:nvPr/>
            </p:nvSpPr>
            <p:spPr>
              <a:xfrm>
                <a:off x="2286000" y="213336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1752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( x0 , y0 , z0 )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352680" y="3733920"/>
              <a:ext cx="2667240" cy="459720"/>
              <a:chOff x="3352680" y="3733920"/>
              <a:chExt cx="2667240" cy="459720"/>
            </a:xfrm>
          </p:grpSpPr>
          <p:sp>
            <p:nvSpPr>
              <p:cNvPr id="205" name=""/>
              <p:cNvSpPr/>
              <p:nvPr/>
            </p:nvSpPr>
            <p:spPr>
              <a:xfrm>
                <a:off x="3352680" y="38098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05320" y="37339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 ( x0 , y0 , z0 )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429000" y="4038480"/>
              <a:ext cx="76212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886200" y="4952880"/>
              <a:ext cx="380880" cy="381240"/>
              <a:chOff x="3886200" y="4952880"/>
              <a:chExt cx="380880" cy="381240"/>
            </a:xfrm>
          </p:grpSpPr>
          <p:sp>
            <p:nvSpPr>
              <p:cNvPr id="209" name=""/>
              <p:cNvSpPr/>
              <p:nvPr/>
            </p:nvSpPr>
            <p:spPr>
              <a:xfrm>
                <a:off x="3886200" y="5029200"/>
                <a:ext cx="380880" cy="30492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962160" y="4952880"/>
                <a:ext cx="228600" cy="38124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676520" y="6858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e 1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4800600"/>
            <a:ext cx="4876560" cy="1618200"/>
            <a:chOff x="2133720" y="4800600"/>
            <a:chExt cx="4876560" cy="1618200"/>
          </a:xfrm>
        </p:grpSpPr>
        <p:grpSp>
          <p:nvGrpSpPr>
            <p:cNvPr id="213" name=""/>
            <p:cNvGrpSpPr/>
            <p:nvPr/>
          </p:nvGrpSpPr>
          <p:grpSpPr>
            <a:xfrm>
              <a:off x="3962520" y="4800600"/>
              <a:ext cx="247680" cy="457200"/>
              <a:chOff x="3962520" y="4800600"/>
              <a:chExt cx="247680" cy="457200"/>
            </a:xfrm>
          </p:grpSpPr>
          <p:sp>
            <p:nvSpPr>
              <p:cNvPr id="214" name=""/>
              <p:cNvSpPr txBox="1"/>
              <p:nvPr/>
            </p:nvSpPr>
            <p:spPr>
              <a:xfrm>
                <a:off x="3962520" y="4800600"/>
                <a:ext cx="247680" cy="23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MS Gothic"/>
                  </a:rPr>
                  <a:t>p</a:t>
                </a:r>
                <a:endPara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MS Gothic"/>
                  <a:ea typeface="MS Gothic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62520" y="51055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133720" y="6019920"/>
              <a:ext cx="4876560" cy="398880"/>
            </a:xfrm>
            <a:prstGeom prst="rect">
              <a:avLst/>
            </a:prstGeom>
            <a:solidFill>
              <a:srgbClr val="e9e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 is outside the a-b lin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371600" y="312840"/>
            <a:ext cx="7772400" cy="6553080"/>
            <a:chOff x="1371600" y="312840"/>
            <a:chExt cx="7772400" cy="6553080"/>
          </a:xfrm>
        </p:grpSpPr>
        <p:sp>
          <p:nvSpPr>
            <p:cNvPr id="218" name=""/>
            <p:cNvSpPr/>
            <p:nvPr/>
          </p:nvSpPr>
          <p:spPr>
            <a:xfrm>
              <a:off x="1371600" y="312840"/>
              <a:ext cx="7772400" cy="6553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47242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riangle plan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6937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e 2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133720" y="2743200"/>
              <a:ext cx="6553080" cy="3675600"/>
              <a:chOff x="2133720" y="2743200"/>
              <a:chExt cx="6553080" cy="36756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133720" y="4800600"/>
                <a:ext cx="4876560" cy="1618200"/>
                <a:chOff x="2133720" y="4800600"/>
                <a:chExt cx="4876560" cy="1618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133720" y="6019920"/>
                  <a:ext cx="4876560" cy="398880"/>
                </a:xfrm>
                <a:prstGeom prst="rect">
                  <a:avLst/>
                </a:prstGeom>
                <a:solidFill>
                  <a:srgbClr val="e9e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 is outside the a-b 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962520" y="4800600"/>
                  <a:ext cx="247680" cy="457200"/>
                  <a:chOff x="3962520" y="4800600"/>
                  <a:chExt cx="247680" cy="457200"/>
                </a:xfrm>
              </p:grpSpPr>
              <p:sp>
                <p:nvSpPr>
                  <p:cNvPr id="225" name=""/>
                  <p:cNvSpPr txBox="1"/>
                  <p:nvPr/>
                </p:nvSpPr>
                <p:spPr>
                  <a:xfrm>
                    <a:off x="3962520" y="4800600"/>
                    <a:ext cx="247680" cy="231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cap="sq"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MS Gothic"/>
                      </a:rPr>
                      <a:t>p</a:t>
                    </a:r>
                    <a:endPara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MS Gothic"/>
                      <a:ea typeface="MS Gothic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962520" y="5105520"/>
                    <a:ext cx="152280" cy="152280"/>
                  </a:xfrm>
                  <a:prstGeom prst="ellipse">
                    <a:avLst/>
                  </a:prstGeom>
                  <a:solidFill>
                    <a:srgbClr val="ff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2286000" y="5037120"/>
                <a:ext cx="6400800" cy="228600"/>
              </a:xfrm>
              <a:prstGeom prst="rtTriangl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600000">
                <a:off x="3848040" y="3162240"/>
                <a:ext cx="1981080" cy="2209680"/>
              </a:xfrm>
              <a:prstGeom prst="triangle">
                <a:avLst>
                  <a:gd name="adj" fmla="val 79454"/>
                </a:avLst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i2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3276720" y="3505320"/>
                <a:ext cx="2514600" cy="532800"/>
                <a:chOff x="3276720" y="3505320"/>
                <a:chExt cx="2514600" cy="5328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276720" y="3885840"/>
                  <a:ext cx="152640" cy="1522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76720" y="3505320"/>
                  <a:ext cx="251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( x0 , y0 , z0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267080" y="5486400"/>
                <a:ext cx="2667240" cy="459720"/>
                <a:chOff x="4267080" y="5486400"/>
                <a:chExt cx="2667240" cy="45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267080" y="5562360"/>
                  <a:ext cx="152640" cy="15264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419720" y="5486400"/>
                  <a:ext cx="251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 ( x0 , y0 , z0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666880" y="2743200"/>
                <a:ext cx="76212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886200" y="4960800"/>
                <a:ext cx="380880" cy="381240"/>
                <a:chOff x="3886200" y="4960800"/>
                <a:chExt cx="380880" cy="381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886200" y="5037120"/>
                  <a:ext cx="380880" cy="304920"/>
                </a:xfrm>
                <a:prstGeom prst="line">
                  <a:avLst/>
                </a:prstGeom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962160" y="4960800"/>
                  <a:ext cx="228600" cy="381240"/>
                </a:xfrm>
                <a:prstGeom prst="line">
                  <a:avLst/>
                </a:prstGeom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133720" y="4800600"/>
                <a:ext cx="4876560" cy="1618200"/>
                <a:chOff x="2133720" y="4800600"/>
                <a:chExt cx="4876560" cy="1618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33720" y="6019920"/>
                  <a:ext cx="4876560" cy="398880"/>
                </a:xfrm>
                <a:prstGeom prst="rect">
                  <a:avLst/>
                </a:prstGeom>
                <a:solidFill>
                  <a:srgbClr val="e9e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 is inside the a-b 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3962520" y="4800600"/>
                  <a:ext cx="247680" cy="457200"/>
                  <a:chOff x="3962520" y="4800600"/>
                  <a:chExt cx="247680" cy="457200"/>
                </a:xfrm>
              </p:grpSpPr>
              <p:sp>
                <p:nvSpPr>
                  <p:cNvPr id="242" name=""/>
                  <p:cNvSpPr txBox="1"/>
                  <p:nvPr/>
                </p:nvSpPr>
                <p:spPr>
                  <a:xfrm>
                    <a:off x="3962520" y="4800600"/>
                    <a:ext cx="247680" cy="231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cap="sq"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MS Gothic"/>
                      </a:rPr>
                      <a:t>p</a:t>
                    </a:r>
                    <a:endParaRPr b="0" lang="en-US" sz="1800" spc="1" strike="noStrike">
                      <a:ln cap="sq"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MS Gothic"/>
                      <a:ea typeface="MS Gothic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962520" y="5105520"/>
                    <a:ext cx="152280" cy="152280"/>
                  </a:xfrm>
                  <a:prstGeom prst="ellipse">
                    <a:avLst/>
                  </a:prstGeom>
                  <a:solidFill>
                    <a:srgbClr val="ff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sp>
        <p:nvSpPr>
          <p:cNvPr id="244" name=""/>
          <p:cNvSpPr/>
          <p:nvPr/>
        </p:nvSpPr>
        <p:spPr>
          <a:xfrm>
            <a:off x="3276720" y="838080"/>
            <a:ext cx="5867280" cy="4597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!Be careful!! About vertical lin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71800" y="2438280"/>
            <a:ext cx="5791320" cy="16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Collision Possble ??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2:26:10Z</dcterms:created>
  <dc:creator>Ned_Dark_D</dc:creator>
  <dc:description/>
  <dc:language>en-US</dc:language>
  <cp:lastModifiedBy>Ned_Dark_D</cp:lastModifiedBy>
  <dcterms:modified xsi:type="dcterms:W3CDTF">2002-03-21T17:29:24Z</dcterms:modified>
  <cp:revision>5</cp:revision>
  <dc:subject/>
  <dc:title>口古月每週一報 Game Program&lt;Gems&gt;</dc:title>
</cp:coreProperties>
</file>