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2E8-D84C-4F2E-BD74-4BEDD175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558-5649-4E72-B99D-DBD62C52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C861-58F8-4468-A70E-0ED7021E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43FC-E83F-4287-9741-3FC78A04E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35BB-A7CF-41BD-A7EC-FB7B98B0E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788F-19F0-4E06-98BF-A3DDCA76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603B-B46A-4AA5-A2DE-79F74B26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2B06-258B-4FAF-918C-B95831B4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66EE-0BE4-4411-B50C-935A8114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76DF-F5C3-4EBD-83F0-7CADBA6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ACF29-4248-4D6B-BD93-58F99406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89B-3844-4897-A709-6988F286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8366-58DA-446C-8ECB-348369EBB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28058-4F3F-4479-9A38-8D302323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5D0-2FEB-4680-B571-53DE030F5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9B8C-318A-4364-AB6E-2CE2AEF2A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1378-9F92-4F33-B5E0-D7A95DE8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A63D-468F-4736-8308-F8832E8E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D676-EFA1-47F9-8988-85820C9D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67CF-DD4D-4A38-9562-8D5E5163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9D91-8FA3-40EB-AB77-11279BAB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FA55-48C3-4E5E-BC0A-E33838BB5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9BB2-5189-4233-8748-3F1B5A93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ED3-DBF8-4D5E-8FDF-2D9E0F8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7BD4-BB84-4F5A-905D-2211ECCABAA2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B8CBF-1E96-40C4-ADF0-DA6528A4BEE3}" type="slidenum">
              <a:rPr b="0" lang="zh-TW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口古月每週一報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cc"/>
                </a:solidFill>
                <a:latin typeface="Arial"/>
              </a:rPr>
              <a:t>4.6 </a:t>
            </a: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Multi-Resolution Maps for Interaction Detection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2002.7.19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cc"/>
                </a:solidFill>
                <a:latin typeface="Arial"/>
              </a:rPr>
              <a:t>鄧志仁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85800" y="2057400"/>
            <a:ext cx="7391520" cy="457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Map::PlaceObject(){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先依照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GameObject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大小判斷所在的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resolution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層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// (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從最底層找起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)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 leve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obj.MapRes=…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依照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GameObject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的座標以及所在的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reolution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層決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定應該在的網格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which_grid = …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200" spc="-1" strike="noStrike">
                <a:solidFill>
                  <a:srgbClr val="003300"/>
                </a:solidFill>
                <a:latin typeface="Times New Roman"/>
              </a:rPr>
              <a:t>找到該網格的指標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gameobject ** which_who = Who[which_grid] 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obj.NexInMap = *whick_who 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which_who = &amp;obj 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obj.MapSquare = which_who 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685800" y="2057400"/>
            <a:ext cx="7391520" cy="2743200"/>
            <a:chOff x="685800" y="2057400"/>
            <a:chExt cx="7391520" cy="2743200"/>
          </a:xfrm>
        </p:grpSpPr>
        <p:sp>
          <p:nvSpPr>
            <p:cNvPr id="381" name=""/>
            <p:cNvSpPr/>
            <p:nvPr/>
          </p:nvSpPr>
          <p:spPr>
            <a:xfrm>
              <a:off x="685800" y="2057400"/>
              <a:ext cx="7391520" cy="2743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09680" y="2133720"/>
              <a:ext cx="45720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209680" y="2743200"/>
              <a:ext cx="4572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209680" y="3809880"/>
              <a:ext cx="45720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209680" y="38098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2096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6668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3920" y="2743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which_wh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209680" y="31240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209680" y="35053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71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576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352680" y="2895480"/>
              <a:ext cx="15264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862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3434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720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200400" y="2362320"/>
              <a:ext cx="152280" cy="1522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52680" y="220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3372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685800" y="2057400"/>
            <a:ext cx="7391520" cy="2743200"/>
            <a:chOff x="685800" y="2057400"/>
            <a:chExt cx="7391520" cy="2743200"/>
          </a:xfrm>
        </p:grpSpPr>
        <p:sp>
          <p:nvSpPr>
            <p:cNvPr id="403" name=""/>
            <p:cNvSpPr/>
            <p:nvPr/>
          </p:nvSpPr>
          <p:spPr>
            <a:xfrm>
              <a:off x="685800" y="2057400"/>
              <a:ext cx="7391520" cy="2743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09680" y="2133720"/>
              <a:ext cx="45720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09680" y="2743200"/>
              <a:ext cx="4572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09680" y="3809880"/>
              <a:ext cx="45720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09680" y="38098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096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6668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39880" y="2743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which_wh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09680" y="31240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09680" y="35053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71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76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352680" y="2895480"/>
              <a:ext cx="15264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862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3434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5720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00400" y="2362320"/>
              <a:ext cx="152280" cy="1522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352680" y="220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52680" y="2590920"/>
              <a:ext cx="7632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74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685800" y="2057400"/>
            <a:ext cx="7391520" cy="2743200"/>
            <a:chOff x="685800" y="2057400"/>
            <a:chExt cx="7391520" cy="2743200"/>
          </a:xfrm>
        </p:grpSpPr>
        <p:sp>
          <p:nvSpPr>
            <p:cNvPr id="426" name=""/>
            <p:cNvSpPr/>
            <p:nvPr/>
          </p:nvSpPr>
          <p:spPr>
            <a:xfrm>
              <a:off x="685800" y="2057400"/>
              <a:ext cx="7391520" cy="2743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209680" y="2133720"/>
              <a:ext cx="45720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209680" y="2743200"/>
              <a:ext cx="4572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209680" y="3809880"/>
              <a:ext cx="45720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09680" y="38098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096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6668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39880" y="2743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which_wh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209680" y="31240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09680" y="35053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2819520" y="2514240"/>
              <a:ext cx="304560" cy="30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6576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52680" y="2895480"/>
              <a:ext cx="15264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8862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434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5720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00400" y="2362320"/>
              <a:ext cx="152280" cy="15228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352680" y="22096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2590920"/>
              <a:ext cx="76320" cy="3045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574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685800" y="2057400"/>
            <a:ext cx="7391520" cy="2743200"/>
            <a:chOff x="685800" y="2057400"/>
            <a:chExt cx="7391520" cy="2743200"/>
          </a:xfrm>
        </p:grpSpPr>
        <p:sp>
          <p:nvSpPr>
            <p:cNvPr id="449" name=""/>
            <p:cNvSpPr/>
            <p:nvPr/>
          </p:nvSpPr>
          <p:spPr>
            <a:xfrm>
              <a:off x="685800" y="2057400"/>
              <a:ext cx="7391520" cy="274320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209680" y="2133720"/>
              <a:ext cx="457200" cy="6094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209680" y="2743200"/>
              <a:ext cx="457200" cy="10666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209680" y="3809880"/>
              <a:ext cx="457200" cy="9907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209680" y="38098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2096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66880" y="3809880"/>
              <a:ext cx="0" cy="990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9880" y="2743200"/>
              <a:ext cx="124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00"/>
                  </a:solidFill>
                  <a:latin typeface="Times New Roman"/>
                </a:rPr>
                <a:t>which_wh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09680" y="312408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09680" y="350532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09680" y="4114800"/>
              <a:ext cx="4572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971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148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9880" y="2895480"/>
              <a:ext cx="15264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3434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800600" y="2895480"/>
              <a:ext cx="152280" cy="152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720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29200" y="29718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200400" y="2895480"/>
              <a:ext cx="152280" cy="1526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00400" y="3048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obj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29000" y="2971800"/>
              <a:ext cx="304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781360" y="2438280"/>
              <a:ext cx="555480" cy="355680"/>
            </a:xfrm>
            <a:custGeom>
              <a:avLst/>
              <a:gdLst/>
              <a:ahLst/>
              <a:rect l="l" t="t" r="r" b="b"/>
              <a:pathLst>
                <a:path w="350" h="224">
                  <a:moveTo>
                    <a:pt x="328" y="224"/>
                  </a:moveTo>
                  <a:cubicBezTo>
                    <a:pt x="338" y="175"/>
                    <a:pt x="350" y="108"/>
                    <a:pt x="320" y="64"/>
                  </a:cubicBezTo>
                  <a:cubicBezTo>
                    <a:pt x="297" y="30"/>
                    <a:pt x="260" y="20"/>
                    <a:pt x="224" y="8"/>
                  </a:cubicBezTo>
                  <a:cubicBezTo>
                    <a:pt x="216" y="5"/>
                    <a:pt x="200" y="0"/>
                    <a:pt x="200" y="0"/>
                  </a:cubicBezTo>
                  <a:cubicBezTo>
                    <a:pt x="156" y="9"/>
                    <a:pt x="117" y="15"/>
                    <a:pt x="80" y="40"/>
                  </a:cubicBezTo>
                  <a:cubicBezTo>
                    <a:pt x="48" y="88"/>
                    <a:pt x="0" y="128"/>
                    <a:pt x="0" y="192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57400" y="2971800"/>
              <a:ext cx="30492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oding Skill : object inser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oding Skill : Collis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057400"/>
            <a:ext cx="7391520" cy="457200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GameObject::ProcessCollisions(…)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GameObject **map_who  = this-&gt;MapSqua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urrent_res = this-&gt;MapR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Do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ProcessOneLevel(…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map_who = my_map-&gt;getLowerMapSquare()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curruen_res-- 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}While(map_wh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GameObject::ProcessOneLevel(square){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 loop{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測試碰撞與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quare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link list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中的物體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for loop{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測試碰撞與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quare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之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east,south,southeast</a:t>
            </a:r>
            <a:r>
              <a:rPr b="0" lang="zh-TW" sz="2000" spc="-1" strike="noStrike">
                <a:solidFill>
                  <a:srgbClr val="003300"/>
                </a:solidFill>
                <a:latin typeface="Times New Roman"/>
              </a:rPr>
              <a:t>的</a:t>
            </a: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square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00"/>
                </a:solidFill>
                <a:latin typeface="Arial"/>
              </a:rPr>
              <a:t>預告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4.17 Fractal Terrain Generation-Fault Form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em2 3.1 Strategies for Optimizing A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505320" y="61722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ttention! End of Power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llision Usual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l pairs tes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 object =&gt; O(n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每個物件每次的某時段內要跟其他的所有物件作碰撞偵測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但是重複到的可以減去一半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=&gt;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你測我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我測你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但是有些物件距離是明顯的遠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這些偵測就沒有必要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Using a Gri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將地圖切割成網格狀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每個物件都有其在網格上的位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只需偵測在同一個網格上的物體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同一區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就可以去除掉遠距離的偵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2895480" y="4343400"/>
            <a:ext cx="1524240" cy="1523880"/>
            <a:chOff x="2895480" y="4343400"/>
            <a:chExt cx="1524240" cy="1523880"/>
          </a:xfrm>
        </p:grpSpPr>
        <p:sp>
          <p:nvSpPr>
            <p:cNvPr id="95" name=""/>
            <p:cNvSpPr/>
            <p:nvPr/>
          </p:nvSpPr>
          <p:spPr>
            <a:xfrm>
              <a:off x="2895480" y="4343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76720" y="4343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57600" y="4343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343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95480" y="4724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76720" y="4724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57600" y="4724280"/>
              <a:ext cx="38088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38480" y="4724280"/>
              <a:ext cx="38124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895480" y="5105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276720" y="5105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57600" y="510552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38480" y="510552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9548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7672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65760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3848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48120" y="4495680"/>
              <a:ext cx="152280" cy="152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4495680"/>
              <a:ext cx="152640" cy="152640"/>
            </a:xfrm>
            <a:prstGeom prst="ellipse">
              <a:avLst/>
            </a:prstGeom>
            <a:noFill/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48120" y="4572000"/>
              <a:ext cx="152280" cy="152280"/>
            </a:xfrm>
            <a:prstGeom prst="ellipse">
              <a:avLst/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2680" y="4876920"/>
              <a:ext cx="152640" cy="1522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3920" y="4800600"/>
              <a:ext cx="228600" cy="2286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09880" y="4876920"/>
              <a:ext cx="228600" cy="228600"/>
            </a:xfrm>
            <a:prstGeom prst="ellipse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14800" y="5562720"/>
              <a:ext cx="228600" cy="228600"/>
            </a:xfrm>
            <a:prstGeom prst="ellipse">
              <a:avLst/>
            </a:prstGeom>
            <a:noFill/>
            <a:ln w="936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xcep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一個物體有其大小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因此座標雖然在某個網格中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但是事實上該物體可能跨網格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解決方法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每個物體除了要偵測同一個網格之中的其他物件之外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還要偵測四周的網格物件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簡化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其實只需要偵測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st , South , Southeast 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三個方向的物件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因為其他的方向會由該方向的網格的物件來偵測到你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85800" y="1981080"/>
            <a:ext cx="7848720" cy="4267440"/>
            <a:chOff x="685800" y="1981080"/>
            <a:chExt cx="7848720" cy="4267440"/>
          </a:xfrm>
        </p:grpSpPr>
        <p:sp>
          <p:nvSpPr>
            <p:cNvPr id="121" name=""/>
            <p:cNvSpPr/>
            <p:nvPr/>
          </p:nvSpPr>
          <p:spPr>
            <a:xfrm>
              <a:off x="685800" y="1981080"/>
              <a:ext cx="7848720" cy="42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057400" y="2133720"/>
              <a:ext cx="4495320" cy="4038480"/>
              <a:chOff x="2057400" y="2133720"/>
              <a:chExt cx="4495320" cy="4038480"/>
            </a:xfrm>
          </p:grpSpPr>
          <p:sp>
            <p:nvSpPr>
              <p:cNvPr id="123" name=""/>
              <p:cNvSpPr/>
              <p:nvPr/>
            </p:nvSpPr>
            <p:spPr>
              <a:xfrm>
                <a:off x="2057400" y="2133720"/>
                <a:ext cx="112356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180960" y="213372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305240" y="2133720"/>
                <a:ext cx="112356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29160" y="2133720"/>
                <a:ext cx="112356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057400" y="3143520"/>
                <a:ext cx="11235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180960" y="314352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5240" y="3143520"/>
                <a:ext cx="11235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160" y="3143520"/>
                <a:ext cx="11235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057400" y="4152960"/>
                <a:ext cx="112356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180960" y="4152960"/>
                <a:ext cx="1123920" cy="1009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305240" y="4152960"/>
                <a:ext cx="1123560" cy="1009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29160" y="4152960"/>
                <a:ext cx="112356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057400" y="5162760"/>
                <a:ext cx="11235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80960" y="5162760"/>
                <a:ext cx="1123920" cy="1009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05240" y="5162760"/>
                <a:ext cx="1123560" cy="1009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429160" y="5162760"/>
                <a:ext cx="112356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506320" y="2536920"/>
                <a:ext cx="448920" cy="405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31680" y="2536920"/>
                <a:ext cx="448920" cy="405000"/>
              </a:xfrm>
              <a:prstGeom prst="ellipse">
                <a:avLst/>
              </a:prstGeom>
              <a:noFill/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06320" y="2740320"/>
                <a:ext cx="448920" cy="403200"/>
              </a:xfrm>
              <a:prstGeom prst="ellipse">
                <a:avLst/>
              </a:prstGeom>
              <a:noFill/>
              <a:ln w="93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52680" y="4343400"/>
                <a:ext cx="1599840" cy="144792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724280" y="4496040"/>
                <a:ext cx="672480" cy="60624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04960" y="5486400"/>
                <a:ext cx="674280" cy="606600"/>
              </a:xfrm>
              <a:prstGeom prst="ellipse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24280" y="5334120"/>
                <a:ext cx="291600" cy="301680"/>
              </a:xfrm>
              <a:prstGeom prst="ellipse">
                <a:avLst/>
              </a:prstGeom>
              <a:noFill/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352680" y="4343400"/>
                <a:ext cx="1599840" cy="14479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71440" y="3886200"/>
                <a:ext cx="914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a2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a200"/>
                    </a:solidFill>
                    <a:latin typeface="Times New Roman"/>
                  </a:rPr>
                  <a:t>x,y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76360" y="4267440"/>
                <a:ext cx="151920" cy="152280"/>
              </a:xfrm>
              <a:prstGeom prst="ellipse">
                <a:avLst/>
              </a:prstGeom>
              <a:solidFill>
                <a:srgbClr val="8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67080" y="4648320"/>
                <a:ext cx="6091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733560" y="510552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190760" y="5029200"/>
                <a:ext cx="45684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oblem : Varying-Size Objec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一個物體過大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除了常會跨網格之外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還有可能會發生跨兩格甚至跨兩格以上的情況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因此依上述演算法就會有沒有偵測到的情況發生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解決方法 </a:t>
            </a:r>
            <a:r>
              <a:rPr b="0" lang="zh-TW" sz="32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ulti-Resolution Map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1981080"/>
            <a:ext cx="7848720" cy="4267440"/>
            <a:chOff x="685800" y="1981080"/>
            <a:chExt cx="7848720" cy="4267440"/>
          </a:xfrm>
        </p:grpSpPr>
        <p:sp>
          <p:nvSpPr>
            <p:cNvPr id="155" name=""/>
            <p:cNvSpPr/>
            <p:nvPr/>
          </p:nvSpPr>
          <p:spPr>
            <a:xfrm>
              <a:off x="685800" y="1981080"/>
              <a:ext cx="7848720" cy="4267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1981080" y="2057400"/>
              <a:ext cx="4496040" cy="4038480"/>
              <a:chOff x="1981080" y="2057400"/>
              <a:chExt cx="4496040" cy="4038480"/>
            </a:xfrm>
          </p:grpSpPr>
          <p:sp>
            <p:nvSpPr>
              <p:cNvPr id="157" name=""/>
              <p:cNvSpPr/>
              <p:nvPr/>
            </p:nvSpPr>
            <p:spPr>
              <a:xfrm>
                <a:off x="1981080" y="2057400"/>
                <a:ext cx="1123920" cy="1009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105000" y="2057400"/>
                <a:ext cx="1124280" cy="10098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29280" y="205740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53200" y="205740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981080" y="3067200"/>
                <a:ext cx="1123920" cy="1009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105000" y="3067200"/>
                <a:ext cx="1124280" cy="1009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29280" y="306720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353200" y="306720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981080" y="407664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105000" y="4076640"/>
                <a:ext cx="112428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29280" y="407664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353200" y="4076640"/>
                <a:ext cx="1123920" cy="1009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981080" y="508644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105000" y="5086440"/>
                <a:ext cx="112428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229280" y="508644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353200" y="5086440"/>
                <a:ext cx="1123920" cy="1009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267080" y="3200400"/>
                <a:ext cx="673200" cy="6066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352680" y="4267080"/>
                <a:ext cx="674640" cy="606600"/>
              </a:xfrm>
              <a:prstGeom prst="ellipse">
                <a:avLst/>
              </a:prstGeom>
              <a:noFill/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133720" y="3733920"/>
                <a:ext cx="291960" cy="301680"/>
              </a:xfrm>
              <a:prstGeom prst="ellipse">
                <a:avLst/>
              </a:prstGeom>
              <a:noFill/>
              <a:ln w="936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514600" y="2590920"/>
                <a:ext cx="1828800" cy="1752480"/>
              </a:xfrm>
              <a:prstGeom prst="ellipse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514600" y="2590920"/>
                <a:ext cx="1828800" cy="1752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133720" y="2133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2400" spc="-1" strike="noStrike">
                    <a:solidFill>
                      <a:srgbClr val="00a200"/>
                    </a:solidFill>
                    <a:latin typeface="Times New Roman"/>
                  </a:rPr>
                  <a:t>(</a:t>
                </a:r>
                <a:r>
                  <a:rPr b="0" lang="en-US" sz="2400" spc="-1" strike="noStrike">
                    <a:solidFill>
                      <a:srgbClr val="00a200"/>
                    </a:solidFill>
                    <a:latin typeface="Times New Roman"/>
                  </a:rPr>
                  <a:t>x,y)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438280" y="2514600"/>
                <a:ext cx="152640" cy="152280"/>
              </a:xfrm>
              <a:prstGeom prst="ellipse">
                <a:avLst/>
              </a:prstGeom>
              <a:solidFill>
                <a:srgbClr val="808000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971800" y="2438280"/>
                <a:ext cx="6094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362320" y="2895480"/>
                <a:ext cx="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971800" y="2895480"/>
                <a:ext cx="457200" cy="45720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4419720" y="2666880"/>
                <a:ext cx="304560" cy="53352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876920" y="2286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200"/>
                    </a:solidFill>
                    <a:latin typeface="Times New Roman"/>
                  </a:rPr>
                  <a:t>collisio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 flipV="1">
                <a:off x="3886200" y="4419360"/>
                <a:ext cx="457200" cy="5331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95680" y="457200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a200"/>
                    </a:solidFill>
                    <a:latin typeface="Times New Roman"/>
                  </a:rPr>
                  <a:t>collision</a:t>
                </a: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ulti-Resolu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將物體依照不同的大小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放在同一塊地圖但是不同網格大小之中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確保該物體最多只有跨越一格的能力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實作方法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不同解析度的地圖網格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一物體除了要偵測自己所在網格的其它物體之外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還要偵測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ast , South , Southeast 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最後是與上層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(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較低階層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網格較大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物體較大 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作比較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總共有幾層依照世界的物件大小而定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如果無法接受誤差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則必須降到最大的一層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整個地圖為一格</a:t>
            </a:r>
            <a:r>
              <a:rPr b="0" lang="zh-TW" sz="28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685800" y="1981080"/>
            <a:ext cx="7848720" cy="4267440"/>
            <a:chOff x="685800" y="1981080"/>
            <a:chExt cx="7848720" cy="4267440"/>
          </a:xfrm>
        </p:grpSpPr>
        <p:sp>
          <p:nvSpPr>
            <p:cNvPr id="190" name=""/>
            <p:cNvSpPr/>
            <p:nvPr/>
          </p:nvSpPr>
          <p:spPr>
            <a:xfrm>
              <a:off x="685800" y="1981080"/>
              <a:ext cx="7848720" cy="426744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22360" y="4257720"/>
              <a:ext cx="2146320" cy="522360"/>
            </a:xfrm>
            <a:prstGeom prst="flowChartInputOutpu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76720" y="4267080"/>
              <a:ext cx="2146320" cy="522360"/>
            </a:xfrm>
            <a:prstGeom prst="flowChartInputOutpu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14400" y="4876920"/>
              <a:ext cx="2143080" cy="523800"/>
            </a:xfrm>
            <a:prstGeom prst="flowChartInputOutpu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43200" y="4876920"/>
              <a:ext cx="2144880" cy="523800"/>
            </a:xfrm>
            <a:prstGeom prst="flowChartInputOutput">
              <a:avLst/>
            </a:prstGeom>
            <a:solidFill>
              <a:srgbClr val="c0c0c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1781280" y="3036960"/>
              <a:ext cx="893520" cy="12207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1066320" y="3560760"/>
              <a:ext cx="893880" cy="17431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5355720" y="3036960"/>
              <a:ext cx="358920" cy="12207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643280" y="3560760"/>
              <a:ext cx="355680" cy="174312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4572000"/>
              <a:ext cx="1447920" cy="60948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4572000"/>
              <a:ext cx="1447920" cy="6094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62320" y="4495680"/>
              <a:ext cx="152280" cy="1526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76520" y="4191120"/>
              <a:ext cx="6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200"/>
                  </a:solidFill>
                  <a:latin typeface="Times New Roman"/>
                </a:rPr>
                <a:t>(x,y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048120" y="4495680"/>
              <a:ext cx="83808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1980720" y="4724280"/>
              <a:ext cx="22860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8120" y="4724280"/>
              <a:ext cx="45720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666880" y="3429000"/>
              <a:ext cx="152640" cy="9144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19720" y="4419720"/>
              <a:ext cx="304560" cy="228600"/>
            </a:xfrm>
            <a:prstGeom prst="ellipse">
              <a:avLst/>
            </a:prstGeom>
            <a:noFill/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60560" y="3036960"/>
              <a:ext cx="3754440" cy="523800"/>
            </a:xfrm>
            <a:prstGeom prst="flowChartInputOutput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15000" y="3048120"/>
              <a:ext cx="2819520" cy="0"/>
            </a:xfrm>
            <a:prstGeom prst="line">
              <a:avLst/>
            </a:prstGeom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5638680" y="1981080"/>
              <a:ext cx="1524240" cy="1067040"/>
            </a:xfrm>
            <a:prstGeom prst="line">
              <a:avLst/>
            </a:prstGeom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3581280"/>
              <a:ext cx="3505320" cy="0"/>
            </a:xfrm>
            <a:prstGeom prst="line">
              <a:avLst/>
            </a:prstGeom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2666880" y="1981080"/>
              <a:ext cx="1524240" cy="1067040"/>
            </a:xfrm>
            <a:prstGeom prst="line">
              <a:avLst/>
            </a:prstGeom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429000" y="2743200"/>
              <a:ext cx="3581280" cy="685800"/>
            </a:xfrm>
            <a:prstGeom prst="ellipse">
              <a:avLst/>
            </a:prstGeom>
            <a:solidFill>
              <a:srgbClr val="3399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2666880"/>
              <a:ext cx="152640" cy="15264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19520" y="2362320"/>
              <a:ext cx="609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a200"/>
                  </a:solidFill>
                  <a:latin typeface="Times New Roman"/>
                </a:rPr>
                <a:t>(x,y)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29000" y="2743200"/>
              <a:ext cx="3581280" cy="685800"/>
            </a:xfrm>
            <a:prstGeom prst="rect">
              <a:avLst/>
            </a:prstGeom>
            <a:noFill/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581280" y="2438280"/>
              <a:ext cx="4953240" cy="0"/>
            </a:xfrm>
            <a:prstGeom prst="line">
              <a:avLst/>
            </a:prstGeom>
            <a:ln cap="rnd" w="9360">
              <a:solidFill>
                <a:srgbClr val="ffff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09480" y="68580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oding Skill : Map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685800" y="2057400"/>
            <a:ext cx="7391520" cy="4191120"/>
            <a:chOff x="685800" y="2057400"/>
            <a:chExt cx="7391520" cy="4191120"/>
          </a:xfrm>
        </p:grpSpPr>
        <p:sp>
          <p:nvSpPr>
            <p:cNvPr id="220" name=""/>
            <p:cNvSpPr/>
            <p:nvPr/>
          </p:nvSpPr>
          <p:spPr>
            <a:xfrm>
              <a:off x="685800" y="2057400"/>
              <a:ext cx="7391520" cy="4191120"/>
            </a:xfrm>
            <a:prstGeom prst="rect">
              <a:avLst/>
            </a:prstGeom>
            <a:solidFill>
              <a:srgbClr val="6699ff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cc00"/>
                  </a:solidFill>
                  <a:latin typeface="Times New Roman"/>
                </a:rPr>
                <a:t>Class </a:t>
              </a:r>
              <a:r>
                <a:rPr b="1" lang="en-US" sz="3000" spc="-1" strike="noStrike">
                  <a:solidFill>
                    <a:srgbClr val="ffcc00"/>
                  </a:solidFill>
                  <a:latin typeface="Times New Roman"/>
                </a:rPr>
                <a:t>Map</a:t>
              </a:r>
              <a:endParaRPr b="0" lang="en-US" sz="3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8080" y="2666880"/>
              <a:ext cx="3124440" cy="3812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ameObject** </a:t>
              </a:r>
              <a:r>
                <a:rPr b="0" lang="en-US" sz="2400" spc="-1" strike="noStrike">
                  <a:solidFill>
                    <a:srgbClr val="ff6600"/>
                  </a:solidFill>
                  <a:latin typeface="Times New Roman"/>
                </a:rPr>
                <a:t>Wh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4038480" y="2438280"/>
            <a:ext cx="3505320" cy="3733920"/>
            <a:chOff x="4038480" y="2438280"/>
            <a:chExt cx="3505320" cy="3733920"/>
          </a:xfrm>
        </p:grpSpPr>
        <p:sp>
          <p:nvSpPr>
            <p:cNvPr id="223" name=""/>
            <p:cNvSpPr/>
            <p:nvPr/>
          </p:nvSpPr>
          <p:spPr>
            <a:xfrm>
              <a:off x="5410080" y="2666880"/>
              <a:ext cx="1676520" cy="3812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GameObjec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4038480" y="2438280"/>
              <a:ext cx="1295640" cy="3733920"/>
              <a:chOff x="4038480" y="2438280"/>
              <a:chExt cx="1295640" cy="3733920"/>
            </a:xfrm>
          </p:grpSpPr>
          <p:sp>
            <p:nvSpPr>
              <p:cNvPr id="225" name=""/>
              <p:cNvSpPr/>
              <p:nvPr/>
            </p:nvSpPr>
            <p:spPr>
              <a:xfrm>
                <a:off x="4038480" y="2895480"/>
                <a:ext cx="38124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952880" y="2895480"/>
                <a:ext cx="381240" cy="0"/>
              </a:xfrm>
              <a:prstGeom prst="line">
                <a:avLst/>
              </a:prstGeom>
              <a:ln w="381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495680" y="2438280"/>
                <a:ext cx="457200" cy="3733920"/>
              </a:xfrm>
              <a:prstGeom prst="rect">
                <a:avLst/>
              </a:prstGeom>
              <a:solidFill>
                <a:srgbClr val="00ff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495680" y="320040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495680" y="419112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495680" y="5257800"/>
                <a:ext cx="457200" cy="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7162920" y="289548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5791320" y="3809880"/>
            <a:ext cx="2209680" cy="1524240"/>
          </a:xfrm>
          <a:prstGeom prst="wedgeRectCallout">
            <a:avLst>
              <a:gd name="adj1" fmla="val 18824"/>
              <a:gd name="adj2" fmla="val -93125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ink List to Chain all Objects in the Gri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5120" y="3962520"/>
            <a:ext cx="2209680" cy="1218960"/>
          </a:xfrm>
          <a:prstGeom prst="wedgeRectCallout">
            <a:avLst>
              <a:gd name="adj1" fmla="val 72699"/>
              <a:gd name="adj2" fmla="val -126564"/>
            </a:avLst>
          </a:prstGeom>
          <a:solidFill>
            <a:srgbClr val="000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ch Grid Own a Link List Poi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2057400"/>
            <a:ext cx="739152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Who[level] = 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New GamObject*[level memory size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] ;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此動作只產生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address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空間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Level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表示第幾層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但是第零層並不一定代表是只有一塊網格的最低解析度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而是使用者自訂的解析度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(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可能是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4 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or 16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個網格為最底層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Level =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該層的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resolution–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最小的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resolu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buClr>
                <a:srgbClr val="00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另外該層所要求的記憶體空間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,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是由該層為何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resolution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來決定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( 4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網格代表需要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4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個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address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空間 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219320" y="2895480"/>
            <a:ext cx="7010280" cy="3733920"/>
            <a:chOff x="1219320" y="2895480"/>
            <a:chExt cx="7010280" cy="3733920"/>
          </a:xfrm>
        </p:grpSpPr>
        <p:sp>
          <p:nvSpPr>
            <p:cNvPr id="236" name=""/>
            <p:cNvSpPr/>
            <p:nvPr/>
          </p:nvSpPr>
          <p:spPr>
            <a:xfrm>
              <a:off x="1219320" y="2895480"/>
              <a:ext cx="7010280" cy="3733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3657600"/>
              <a:ext cx="6858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352680" y="37339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733920" y="3886200"/>
              <a:ext cx="380880" cy="14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981080" y="3733920"/>
              <a:ext cx="8384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19520" y="38862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81080" y="3124080"/>
              <a:ext cx="449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ffffcc"/>
                  </a:solidFill>
                  <a:latin typeface="Times New Roman"/>
                </a:rPr>
                <a:t>第一層 一個網格 一個</a:t>
              </a: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link address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7800" y="3962520"/>
              <a:ext cx="16002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324480" y="3733920"/>
              <a:ext cx="457200" cy="380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81680" y="3124080"/>
              <a:ext cx="685800" cy="685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467480" y="3657600"/>
              <a:ext cx="228600" cy="228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15200" y="3886200"/>
              <a:ext cx="685800" cy="685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19112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95680" y="38862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72428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oding Skill : Map Ini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219320" y="2895480"/>
            <a:ext cx="7010280" cy="3733920"/>
            <a:chOff x="1219320" y="2895480"/>
            <a:chExt cx="7010280" cy="3733920"/>
          </a:xfrm>
        </p:grpSpPr>
        <p:sp>
          <p:nvSpPr>
            <p:cNvPr id="253" name=""/>
            <p:cNvSpPr/>
            <p:nvPr/>
          </p:nvSpPr>
          <p:spPr>
            <a:xfrm>
              <a:off x="4419720" y="2895480"/>
              <a:ext cx="838080" cy="304920"/>
            </a:xfrm>
            <a:prstGeom prst="rect">
              <a:avLst/>
            </a:prstGeom>
            <a:noFill/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19320" y="2895480"/>
              <a:ext cx="7010280" cy="3733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200400" y="3657600"/>
              <a:ext cx="6858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352680" y="37339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33920" y="3886200"/>
              <a:ext cx="380880" cy="14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76520" y="37339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[0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8862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1080" y="3124080"/>
              <a:ext cx="4496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ffffcc"/>
                  </a:solidFill>
                  <a:latin typeface="Times New Roman"/>
                </a:rPr>
                <a:t>第二層 四個網格 四個</a:t>
              </a: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link address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0400" y="4114800"/>
              <a:ext cx="685800" cy="137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352680" y="41911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352680" y="4495680"/>
              <a:ext cx="381240" cy="30492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352680" y="4800600"/>
              <a:ext cx="381240" cy="30492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352680" y="51055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733920" y="434340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33920" y="464832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76520" y="41911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[1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819520" y="43434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57800" y="3962520"/>
              <a:ext cx="16002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324480" y="3733920"/>
              <a:ext cx="457200" cy="38088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3124080"/>
              <a:ext cx="685800" cy="685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467480" y="3657600"/>
              <a:ext cx="228600" cy="228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15200" y="3886200"/>
              <a:ext cx="685800" cy="6858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29200" y="4495680"/>
              <a:ext cx="9144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1320" y="4495680"/>
              <a:ext cx="9144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76920" y="4724280"/>
              <a:ext cx="9144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638680" y="4724280"/>
              <a:ext cx="914400" cy="228600"/>
            </a:xfrm>
            <a:prstGeom prst="flowChartInputOutput">
              <a:avLst/>
            </a:prstGeom>
            <a:solidFill>
              <a:srgbClr val="8080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5181120" y="3962520"/>
              <a:ext cx="381240" cy="5331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4876920" y="4191120"/>
              <a:ext cx="380880" cy="7617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705360" y="3962520"/>
              <a:ext cx="152280" cy="5331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400440" y="4191120"/>
              <a:ext cx="152280" cy="761760"/>
            </a:xfrm>
            <a:prstGeom prst="line">
              <a:avLst/>
            </a:prstGeom>
            <a:ln w="1260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5486400" y="4419360"/>
              <a:ext cx="304920" cy="228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095880" y="4419360"/>
              <a:ext cx="304920" cy="228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5334120" y="4647960"/>
              <a:ext cx="304560" cy="22860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019920" y="4800600"/>
              <a:ext cx="7617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1680" y="4495680"/>
              <a:ext cx="381240" cy="3812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9112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495680" y="38862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72428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1219320" y="2895480"/>
            <a:ext cx="7010280" cy="3733920"/>
            <a:chOff x="1219320" y="2895480"/>
            <a:chExt cx="7010280" cy="3733920"/>
          </a:xfrm>
        </p:grpSpPr>
        <p:sp>
          <p:nvSpPr>
            <p:cNvPr id="292" name=""/>
            <p:cNvSpPr/>
            <p:nvPr/>
          </p:nvSpPr>
          <p:spPr>
            <a:xfrm>
              <a:off x="1219320" y="2895480"/>
              <a:ext cx="7010280" cy="3733920"/>
            </a:xfrm>
            <a:prstGeom prst="rect">
              <a:avLst/>
            </a:prstGeom>
            <a:solidFill>
              <a:srgbClr val="003366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00400" y="3657600"/>
              <a:ext cx="685800" cy="4572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352680" y="37339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733920" y="3886200"/>
              <a:ext cx="380880" cy="144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76520" y="37339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[0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819520" y="38862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981080" y="3124080"/>
              <a:ext cx="487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2200" spc="-1" strike="noStrike">
                  <a:solidFill>
                    <a:srgbClr val="ffffcc"/>
                  </a:solidFill>
                  <a:latin typeface="Times New Roman"/>
                </a:rPr>
                <a:t>第三層 十六個網格 十六個</a:t>
              </a:r>
              <a:r>
                <a:rPr b="0" lang="en-US" sz="2200" spc="-1" strike="noStrike">
                  <a:solidFill>
                    <a:srgbClr val="ffffcc"/>
                  </a:solidFill>
                  <a:latin typeface="Times New Roman"/>
                </a:rPr>
                <a:t>link address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00400" y="4114800"/>
              <a:ext cx="685800" cy="13716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2680" y="41911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52680" y="4495680"/>
              <a:ext cx="381240" cy="30492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52680" y="4800600"/>
              <a:ext cx="381240" cy="30492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51055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733920" y="434340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733920" y="464832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676520" y="41911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[1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19520" y="43434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200400" y="5486400"/>
              <a:ext cx="685800" cy="9907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52680" y="5562720"/>
              <a:ext cx="381240" cy="304560"/>
            </a:xfrm>
            <a:prstGeom prst="rect">
              <a:avLst/>
            </a:prstGeom>
            <a:solidFill>
              <a:srgbClr val="00a200">
                <a:alpha val="50000"/>
              </a:srgbClr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505320" y="6019920"/>
              <a:ext cx="75960" cy="7596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505320" y="6248520"/>
              <a:ext cx="75960" cy="75960"/>
            </a:xfrm>
            <a:prstGeom prst="ellipse">
              <a:avLst/>
            </a:prstGeom>
            <a:solidFill>
              <a:srgbClr val="808000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76520" y="5562720"/>
              <a:ext cx="11430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Who[2]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19520" y="5715000"/>
              <a:ext cx="380880" cy="144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33920" y="5715000"/>
              <a:ext cx="380880" cy="0"/>
            </a:xfrm>
            <a:prstGeom prst="line">
              <a:avLst/>
            </a:prstGeom>
            <a:ln w="381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9112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5680" y="3886200"/>
              <a:ext cx="22860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724280" y="3733920"/>
              <a:ext cx="228600" cy="22860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4571640" y="3124080"/>
              <a:ext cx="3429360" cy="2667240"/>
              <a:chOff x="4571640" y="3124080"/>
              <a:chExt cx="3429360" cy="2667240"/>
            </a:xfrm>
          </p:grpSpPr>
          <p:sp>
            <p:nvSpPr>
              <p:cNvPr id="319" name=""/>
              <p:cNvSpPr/>
              <p:nvPr/>
            </p:nvSpPr>
            <p:spPr>
              <a:xfrm>
                <a:off x="5257800" y="3962520"/>
                <a:ext cx="1600200" cy="228600"/>
              </a:xfrm>
              <a:prstGeom prst="flowChartInputOutpu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324480" y="3733920"/>
                <a:ext cx="457200" cy="3808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81680" y="3124080"/>
                <a:ext cx="685800" cy="685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7480" y="3657600"/>
                <a:ext cx="2286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15200" y="3886200"/>
                <a:ext cx="685800" cy="68580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029200" y="4495680"/>
                <a:ext cx="914400" cy="228600"/>
              </a:xfrm>
              <a:prstGeom prst="flowChartInputOutpu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791320" y="4495680"/>
                <a:ext cx="914400" cy="228600"/>
              </a:xfrm>
              <a:prstGeom prst="flowChartInputOutpu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876920" y="4724280"/>
                <a:ext cx="914400" cy="228600"/>
              </a:xfrm>
              <a:prstGeom prst="flowChartInputOutpu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638680" y="4724280"/>
                <a:ext cx="914400" cy="228600"/>
              </a:xfrm>
              <a:prstGeom prst="flowChartInputOutput">
                <a:avLst/>
              </a:prstGeom>
              <a:solidFill>
                <a:srgbClr val="808000">
                  <a:alpha val="50000"/>
                </a:srgbClr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5181120" y="3962520"/>
                <a:ext cx="381240" cy="53316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876920" y="4191120"/>
                <a:ext cx="380880" cy="761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705360" y="3962520"/>
                <a:ext cx="152280" cy="53316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400440" y="4191120"/>
                <a:ext cx="152280" cy="76176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486400" y="4419360"/>
                <a:ext cx="3049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6095880" y="4419360"/>
                <a:ext cx="3049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5334120" y="4647960"/>
                <a:ext cx="3045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6019920" y="4800600"/>
                <a:ext cx="76176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81680" y="4495680"/>
                <a:ext cx="381240" cy="381240"/>
              </a:xfrm>
              <a:prstGeom prst="ellipse">
                <a:avLst/>
              </a:prstGeom>
              <a:solidFill>
                <a:srgbClr val="ffffcc"/>
              </a:solidFill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grpSp>
            <p:nvGrpSpPr>
              <p:cNvPr id="337" name=""/>
              <p:cNvGrpSpPr/>
              <p:nvPr/>
            </p:nvGrpSpPr>
            <p:grpSpPr>
              <a:xfrm>
                <a:off x="4724280" y="5105160"/>
                <a:ext cx="914400" cy="381240"/>
                <a:chOff x="4724280" y="5105160"/>
                <a:chExt cx="914400" cy="3812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800240" y="518148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5181480" y="518148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4724280" y="533412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105160" y="533412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V="1">
                  <a:off x="5028840" y="510516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V="1">
                  <a:off x="5410080" y="510516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V="1">
                  <a:off x="4952880" y="525744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V="1">
                  <a:off x="5333760" y="525744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5486400" y="5105160"/>
                <a:ext cx="914400" cy="381240"/>
                <a:chOff x="5486400" y="5105160"/>
                <a:chExt cx="914400" cy="38124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5562360" y="518148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5943600" y="518148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86400" y="533412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867280" y="533412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5790960" y="510516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V="1">
                  <a:off x="6172200" y="510516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flipV="1">
                  <a:off x="5715000" y="525744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 flipV="1">
                  <a:off x="6095880" y="525744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572000" y="5409720"/>
                <a:ext cx="914400" cy="381240"/>
                <a:chOff x="4572000" y="5409720"/>
                <a:chExt cx="914400" cy="3812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647960" y="548604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5029200" y="548604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572000" y="563868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4952880" y="563868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 flipV="1">
                  <a:off x="4876560" y="540972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 flipV="1">
                  <a:off x="5257800" y="54097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 flipV="1">
                  <a:off x="4800600" y="55620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 flipV="1">
                  <a:off x="5181480" y="55620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5334120" y="5409720"/>
                <a:ext cx="914400" cy="381240"/>
                <a:chOff x="5334120" y="5409720"/>
                <a:chExt cx="914400" cy="38124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5410080" y="548604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5791320" y="5486040"/>
                  <a:ext cx="457200" cy="15264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5334120" y="563868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715000" y="5638680"/>
                  <a:ext cx="457200" cy="152280"/>
                </a:xfrm>
                <a:prstGeom prst="flowChartInputOutput">
                  <a:avLst/>
                </a:prstGeom>
                <a:solidFill>
                  <a:srgbClr val="808000">
                    <a:alpha val="50000"/>
                  </a:srgbClr>
                </a:solidFill>
                <a:ln w="9360">
                  <a:solidFill>
                    <a:srgbClr val="ff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 flipV="1">
                  <a:off x="5638680" y="540972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 flipV="1">
                  <a:off x="6019920" y="540972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 flipV="1">
                  <a:off x="5562720" y="55620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 flipV="1">
                  <a:off x="5943600" y="5562000"/>
                  <a:ext cx="76320" cy="152280"/>
                </a:xfrm>
                <a:prstGeom prst="line">
                  <a:avLst/>
                </a:prstGeom>
                <a:ln w="9360">
                  <a:solidFill>
                    <a:srgbClr val="ff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3" name=""/>
              <p:cNvSpPr/>
              <p:nvPr/>
            </p:nvSpPr>
            <p:spPr>
              <a:xfrm flipH="1">
                <a:off x="4571640" y="4952880"/>
                <a:ext cx="304920" cy="838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4876920" y="4495680"/>
                <a:ext cx="304560" cy="685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>
                <a:off x="6400440" y="4495680"/>
                <a:ext cx="304920" cy="685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095520" y="4952880"/>
                <a:ext cx="304920" cy="838440"/>
              </a:xfrm>
              <a:prstGeom prst="line">
                <a:avLst/>
              </a:prstGeom>
              <a:ln w="12600">
                <a:solidFill>
                  <a:srgbClr val="ffffcc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oding Skill : GameObjec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" y="2057400"/>
            <a:ext cx="7391520" cy="419112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Class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GameObject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{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// link list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指向下一個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gameobjec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GameObject *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NextInMap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 ;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此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address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指向 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[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map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中指向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link list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的頭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]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GameObject **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MapSquare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 ;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// 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此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object</a:t>
            </a:r>
            <a:r>
              <a:rPr b="0" lang="zh-TW" sz="2600" spc="-1" strike="noStrike">
                <a:solidFill>
                  <a:srgbClr val="003300"/>
                </a:solidFill>
                <a:latin typeface="Times New Roman"/>
              </a:rPr>
              <a:t>所在的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resolutio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Int 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MapRes</a:t>
            </a: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 ;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00"/>
                </a:solidFill>
                <a:latin typeface="Times New Roman"/>
              </a:rPr>
              <a:t>}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6:57:36Z</dcterms:created>
  <dc:creator>Ned_Dark_D</dc:creator>
  <dc:description/>
  <dc:language>en-US</dc:language>
  <cp:lastModifiedBy>Ned_Dark_D</cp:lastModifiedBy>
  <dcterms:modified xsi:type="dcterms:W3CDTF">2002-07-19T04:32:37Z</dcterms:modified>
  <cp:revision>7</cp:revision>
  <dc:subject/>
  <dc:title>口古月每週一報</dc:title>
</cp:coreProperties>
</file>