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CE4-4CFA-4C62-BC3A-55D09FF7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4EE-15E2-4861-9702-BD1B1F9A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E93-8414-4F7D-B714-5F56C4E1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987-5231-4CF9-8194-8C303116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08A-996A-48A4-8F36-462465D3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2A0-C311-4C83-8E08-5A5D560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82D4-0C03-445F-9ABC-7DF0CDA5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FA58-BEDD-4F81-A89F-821413E6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F67A-C4FE-4687-BCF6-E1EAEE7E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35C4-EF46-45AE-A8AF-79DBA07C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31A7-68A1-4A72-BD37-FFE7CA8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9C1-5C26-4CE4-874E-53A67E8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91AF-19CB-4C7A-9F73-9D968ED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6BC3-691F-4116-B1F2-1EE3B655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8ACB-28F2-43CF-B81F-FEAF3BB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2992-BF94-4F67-8818-76E684B1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AFC5-28FA-4246-811E-4FBF9F56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066-319B-4D4B-9B41-ADF551B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52C-8ED0-47C2-9101-0C53DD37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644-C030-4D88-94E7-4B9B7B20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439-9EB7-4158-8094-B9FA94CC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0D7-D018-4082-832E-3027FD99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8E3-5802-44EB-B309-6A191EB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1D4-2CA2-4D2F-84E6-97B46DD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5F0-C649-4C08-B5F5-6818EFD60BA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2899-6CF0-43C2-A096-654E3BD11FC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10800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Game Program Gems </a:t>
            </a:r>
            <a:r>
              <a:rPr b="1" i="1" lang="zh-TW" sz="4400" spc="-1" strike="noStrike">
                <a:solidFill>
                  <a:srgbClr val="0000ff"/>
                </a:solidFill>
                <a:latin typeface="Times New Roman"/>
                <a:ea typeface="標楷體"/>
              </a:rPr>
              <a:t>週會報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6986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~ Section 4.9 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2/03/15 report by craz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cc"/>
                </a:solidFill>
                <a:latin typeface="Times New Roman"/>
              </a:rPr>
              <a:t>Model selection to fit your need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y need different level of model under different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trade between graphic quality and progr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ays support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: L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: prograssive 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cc"/>
                </a:solidFill>
                <a:latin typeface="Times New Roman"/>
              </a:rPr>
              <a:t>By this section, we discuss LO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be a “pop” when we go forward and back on the critical line if we just decide which level of model to use by the distance between the model and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ays supported to improve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cation factor &amp; hysteresis thresho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cc"/>
                </a:solidFill>
                <a:latin typeface="Times New Roman"/>
              </a:rPr>
              <a:t>Magnification fact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both distance and the scale on the screen to make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ten objects “ large on the screen” are more obvious the objects “real size larg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 of calculation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creen = (xview*xscale)/zview+x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xscale/z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lease refer the pictures in the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cc"/>
                </a:solidFill>
                <a:latin typeface="Times New Roman"/>
              </a:rPr>
              <a:t>Hysteresis threshol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fer to Figure 4.9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regard this way as using a buffer(threshold) around the critic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 put a “no change” range to avoid popping the model to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y can improve the critical line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cc"/>
                </a:solidFill>
                <a:latin typeface="Times New Roman"/>
              </a:rPr>
              <a:t>Conclusion and other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 and algorithm selec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atten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ally biasing the magnification fact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number of models or polyg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mesh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~~~To be continued, see u nex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3:06:39Z</dcterms:created>
  <dc:creator>crazier</dc:creator>
  <dc:description/>
  <dc:language>en-US</dc:language>
  <cp:lastModifiedBy>Ned_Dark_D</cp:lastModifiedBy>
  <dcterms:modified xsi:type="dcterms:W3CDTF">2002-03-15T11:52:09Z</dcterms:modified>
  <cp:revision>9</cp:revision>
  <dc:subject/>
  <dc:title>Game Program Gems 心得報告</dc:title>
</cp:coreProperties>
</file>