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1BB8-13FB-440F-9B3D-1457867B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04CF-DCE4-4A4F-B120-3B97A1F9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3E2B-4418-4B3B-9604-0D4A6046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BB35-0844-4243-A756-80B25A66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6619-5497-4A37-8D45-A0FC0105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F053-B8D3-4D7A-A429-480BAEC2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FCF8-91D2-492E-BF1A-43760FBD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59CB-6097-4483-9C50-CE47E2C6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348C-09F7-493C-8555-E74D8904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31CD-5FD2-48D4-8F2D-FE3DC93E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534D-7758-41FE-AE50-FA2D1272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F660-1B62-4DB8-9F03-CFC3B8EB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3F5E-AFA5-4E21-B28F-A23EF16B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1EC3-B648-45C4-8329-1845B519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9DF4-7750-404B-9B51-E139427D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12BF-2CDC-4646-B2BD-16B43B89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CCCC-8E1C-4DEF-B322-DE815131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30A9-C524-4430-B328-37D18C3A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DF75-2C03-4C45-8070-8E16FC1A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6079-2CD4-4071-8F9B-8CCECABF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9196-B079-451E-905F-1F96B489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1A46-E781-438E-9EE6-11040699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3A93-38D1-4811-9746-2FBA7CB5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272D-E590-48A3-AFF1-C4754ECA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F2A4-3403-4806-B283-17236C6E2361}" type="slidenum">
              <a:rPr b="0" lang="zh-TW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6956-80C3-42C4-B468-0D165F5A2404}" type="slidenum">
              <a:rPr b="0" lang="zh-TW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2D LENS FLAR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Inerreflection between elements o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lens when the camera is point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ward a bright ligh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In real life : Think of a defec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In games : A cool effec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PHICAL PRINCI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Just a simple 2D texture mapp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Render with small collection of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xture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Using gray-scale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xtu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Alpha blending makes the effec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nslucen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Variety of texture size an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nslucency when anima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02:01:47Z</dcterms:created>
  <dc:creator>HKCHU</dc:creator>
  <dc:description/>
  <dc:language>en-US</dc:language>
  <cp:lastModifiedBy>HKCHU</cp:lastModifiedBy>
  <dcterms:modified xsi:type="dcterms:W3CDTF">2002-03-08T02:12:29Z</dcterms:modified>
  <cp:revision>2</cp:revision>
  <dc:subject/>
  <dc:title>2D LENS FLARE</dc:title>
</cp:coreProperties>
</file>