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AD58-006E-426A-BF02-D9BD5869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CF52-44BC-44B5-BAE2-3CA05082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B679-02B1-4E17-80C0-32353295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2C35-A753-451B-9C3E-C18CF0E8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1FCE-8667-4F0F-8733-DD9B8B9DE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A9FF-489B-443F-B020-0150CBFE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4DEB-90BE-485E-9FA8-23819B1E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029B-5BFA-4301-8057-FD76F623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931F-6EE1-435F-9C48-5D6F2CEF3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86CAC-87EE-43C2-AD2C-C201CC2A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9FEC-1FD9-4E4A-9660-B81D06B5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C41D-EDF0-47D3-8714-FDCC7AF4D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F797C-61A7-436A-B830-47AD1250C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96912-5A27-45B4-AF69-9E308FC4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DA4D-0837-41AB-BF91-05C18C43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B06D-60F6-4E80-94BA-92BE02D9F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349F1-1F93-414D-8A13-1CE75EEB4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4D3F-B7FF-499C-8D25-E6A07E83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0A9-77FB-404C-B406-B73AA088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B543-C97C-4C54-8361-E3C8DD024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CDA0-43F0-472F-87BA-95AE52AF1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5B8C-55FF-443D-83CF-98ECDB09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BEA2-4C45-48A3-9C6C-E9C215D8D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429D-8D09-4066-A3FC-61B390CF1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9BCA-381F-4D37-A7A5-FE77915A43F2}" type="slidenum">
              <a:rPr b="0" lang="zh-TW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C36C-1E77-444E-A20D-3692222F95A4}" type="slidenum">
              <a:rPr b="0" lang="zh-TW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Using 3D Hardware For 2D Sprite 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ow to use 3D hardware to achieve 2D effec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pha blend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prite scaling and rotating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etting up the 3D sce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3D scene must be rendered to a 2D scr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t up our 3D scene so that everything is directly facing the came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Setting up the textur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PixelStorei(GL_UNPACK_ALIGNMENT, 1)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GenTextures(1, (GLuint*)&amp;mTextureID)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oading textu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f (mTextureID == 0) {GLenum gle = glGetError();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BindTexture(GL_TEXTURE_2D, mTextureID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nd the texture with ID -&gt;mTextureI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nt.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TexParameteri(GL_TEXTURE_2D, GL_TEXTURE_WRAP_S, GL_CLAMP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TexParameteri(GL_TEXTURE_2D, GL_TEXTURE_WRAP_T, GL_CLAMP)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TexParameteri(GL_TEXTURE_2D, GL_TEXTURE_MAG_FILTER, GL_LINEAR)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TexParameteri(GL_TEXTURE_2D, GL_TEXTURE_MIN_FILTER, GL_LINEAR);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lTexImage2D(GL_TEXTURE_2D, 0, GL_RGBA, 128, 128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0, GL_RGBA, GL_UNSIGNED_BYTE, gpgtexture);(not know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Draw the 3D sprit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Translatef(m_iX,m_iY,0);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Rotatef(m_fRotation, 0, 0, 1);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BlendFunc(GL_SRC_ALPHA, GL_ONE_MINUS_SRC_ALPHA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rcColor*(srcAlpha)+destColor*(1-srcalph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Enable(GL_TEXTURE_2D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TexEnvf(GL_TEXTURE_ENV, GL_TEXTURE_ENV_MODE, GL_MODULATE);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lBindTexture(GL_TEXTURE_2D, mTextureID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End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can add variety of special effect to 2D spri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atching dem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02:14:23Z</dcterms:created>
  <dc:creator>HKCHU</dc:creator>
  <dc:description/>
  <dc:language>en-US</dc:language>
  <cp:lastModifiedBy>HKCHU</cp:lastModifiedBy>
  <dcterms:modified xsi:type="dcterms:W3CDTF">2002-03-08T02:39:26Z</dcterms:modified>
  <cp:revision>2</cp:revision>
  <dc:subject/>
  <dc:title>Using 3D Hardware For 2D Sprite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