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3CA-9057-4539-9A95-DE3F0EED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A3E-FFF5-4867-96A9-DDED8CC3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A27-EB31-44C4-9FDF-95A81EA1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42A-242E-42AF-B5CE-84F14E13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2A6C-7922-48FA-ACB6-FA7A2051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D824-DB8F-4627-B94A-A89D3514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0AB-D8E9-404C-A94F-8C9976B6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8B0F-C1AA-48A2-BDE5-09F64F1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C70-F069-40E2-85B0-4B97F434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908D-BF0F-4FEE-AF76-BF4D393F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A096-4352-40AF-BE0D-43E5B3D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B5A-A1AE-4974-BAC0-D72B1875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6E47-CE5A-476A-AC4A-AD6BBFF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EE60-9FDD-4A74-BA62-E1510FB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6EC1-9468-4BFD-8D1B-8FBFCE56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28D3-4FD6-4BE1-A233-001E1D12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9F98-CB1C-47E6-A50E-DF048DB8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50A-9779-4886-B5DE-44A3699A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9B9-A84F-47EE-A13A-99B017CD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F5A-0769-4939-BF3F-CD51E633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A2D-09CB-42EB-B8A6-B00B0B3E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662-C687-47CC-B686-9DF5AFB2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FD2-1D4C-403C-A67C-13DA27DF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098-391B-4967-8F3F-29066D0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2033-C305-48BC-B766-83C6E9B350F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4"/>
          <a:stretch/>
        </p:blipFill>
        <p:spPr>
          <a:xfrm>
            <a:off x="0" y="604512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66C2-A7CC-4A1C-9650-E546ACF9581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/>
          <p:cNvPicPr/>
          <p:nvPr/>
        </p:nvPicPr>
        <p:blipFill>
          <a:blip r:embed="rId6"/>
          <a:stretch/>
        </p:blipFill>
        <p:spPr>
          <a:xfrm>
            <a:off x="0" y="6045120"/>
            <a:ext cx="81288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口古月每週一報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5.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incing-Looking Glass for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2.4.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鄧志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blem in solution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ransparent behind a opaque or behind a transpar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transparent blend , the formula A may not be sufficient.(Formula A is use to in front of =&gt; you may not be able to distinct the front or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lution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Z-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ll the opaque prim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ll transparent primitive by depth and draw them using formul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blem in solution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by depth is a large task to do , and may be a significant performance h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sort method may not be able to handle the complicated situation like cover each other , and need a per-pixel depth sort and too much overl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rt function work well , we even don’t need to draw opaque first. But of course it’s more compl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lution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-function : determines which Z values pass the Z-comparison.( In OpenGL it usually less-then[closer]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till need a alpha values in the frame buffer ( Alpha-buffer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Z-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the Alpha-buffer with 0(transpar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lution 3 (cont.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Z function to greater-than(behind) , use Blend formula A , draw the first transparent primitive with Z-overwriting disable.Write the alpha value into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Z function to less-than(front) , use Blend formula A , draw with Z-overwriting enable. Write the alpha into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last two steps for each transparent prim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lution 3 (cont.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Z-function to greater-than(behind), use Blend formula B draw all opaque primitives with Z overwriting enable. Alpha value set t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Z-function to less-than(front) , draw all opaque primitives with Z-overwriting enabled and blending disab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blem in solution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 buffer is complexity of 1 , so it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two(or more) alpha value in the same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3406680"/>
            <a:ext cx="3581640" cy="2765520"/>
            <a:chOff x="1295280" y="3406680"/>
            <a:chExt cx="3581640" cy="2765520"/>
          </a:xfrm>
        </p:grpSpPr>
        <p:sp>
          <p:nvSpPr>
            <p:cNvPr id="164" name=""/>
            <p:cNvSpPr/>
            <p:nvPr/>
          </p:nvSpPr>
          <p:spPr>
            <a:xfrm>
              <a:off x="1295280" y="3429000"/>
              <a:ext cx="3581640" cy="274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446200" y="3885840"/>
              <a:ext cx="1211400" cy="21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4267080"/>
              <a:ext cx="709560" cy="6858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446200" y="3505320"/>
              <a:ext cx="144720" cy="25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800000">
              <a:off x="1531440" y="4919400"/>
              <a:ext cx="2133720" cy="3808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rface1 A = 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0000">
              <a:off x="2209320" y="3948120"/>
              <a:ext cx="227196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rface1 A = 0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3200040" y="4800600"/>
              <a:ext cx="11430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33920" y="5638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= 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029200" y="3429000"/>
            <a:ext cx="3581280" cy="2743200"/>
            <a:chOff x="5029200" y="3429000"/>
            <a:chExt cx="3581280" cy="2743200"/>
          </a:xfrm>
        </p:grpSpPr>
        <p:sp>
          <p:nvSpPr>
            <p:cNvPr id="173" name=""/>
            <p:cNvSpPr/>
            <p:nvPr/>
          </p:nvSpPr>
          <p:spPr>
            <a:xfrm>
              <a:off x="5029200" y="3429000"/>
              <a:ext cx="3581280" cy="274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180120" y="3733920"/>
              <a:ext cx="1058760" cy="23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4480" y="3657600"/>
              <a:ext cx="709560" cy="6858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180120" y="3505320"/>
              <a:ext cx="144360" cy="25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800000">
              <a:off x="5265360" y="4919400"/>
              <a:ext cx="2133720" cy="3808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rface1 A = 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800000">
              <a:off x="5409720" y="4419720"/>
              <a:ext cx="227196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rface1 A = 0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086600" y="4114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15200" y="41148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= 0.3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on-Planar Glass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lass bottle’s edge is more da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urface normal start to point away from the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is to put a light source on the camera , to simulate the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71600" y="4648320"/>
            <a:ext cx="6553080" cy="1752480"/>
            <a:chOff x="1371600" y="4648320"/>
            <a:chExt cx="6553080" cy="1752480"/>
          </a:xfrm>
        </p:grpSpPr>
        <p:sp>
          <p:nvSpPr>
            <p:cNvPr id="184" name=""/>
            <p:cNvSpPr/>
            <p:nvPr/>
          </p:nvSpPr>
          <p:spPr>
            <a:xfrm>
              <a:off x="1371600" y="4648320"/>
              <a:ext cx="6553080" cy="1752480"/>
            </a:xfrm>
            <a:prstGeom prst="rect">
              <a:avLst/>
            </a:pr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590560" y="5486400"/>
              <a:ext cx="2590560" cy="76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480" y="5181480"/>
              <a:ext cx="709200" cy="6858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733200" y="5181120"/>
              <a:ext cx="137124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38280" y="5486400"/>
              <a:ext cx="15192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590560" y="5181120"/>
              <a:ext cx="281916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410080" y="4800600"/>
              <a:ext cx="53280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5181480" y="4724280"/>
              <a:ext cx="228240" cy="4572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TexGeni(GL_S,GL_TEXTURE_GEN_MODE,GL_SPERE_MAP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TexGeni(GL_T,GL_TEXTURE_GEN_MODE,GL_SPERE_MAP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Enable(GL_TEXTURE_GEN_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Enable(GL_TEXTURE_GEN_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you want to know about 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environment mapp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some excellent method, please check the 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refer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預告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5 A* Speed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11 Refraction Mapping for Liquids in Co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tion! End of Power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Main Feature in Transparent Object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ans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透明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透過物體看到物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fr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折射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透過物體看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ort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的物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fl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反射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從物體上看到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e Render Method</a:t>
            </a:r>
            <a:br>
              <a:rPr sz="4400"/>
            </a:br>
            <a:r>
              <a:rPr b="0" lang="en-US" sz="2600" spc="-1" strike="noStrike">
                <a:solidFill>
                  <a:srgbClr val="221304"/>
                </a:solidFill>
                <a:latin typeface="Times New Roman"/>
              </a:rPr>
              <a:t>~ a simple pixel rendered with Z-buffering enabled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Z value of a pixel to be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at value with the position in the Z-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’s closer to the viewer , overwrite it , Else do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5334120"/>
            <a:ext cx="7315200" cy="1066680"/>
            <a:chOff x="1219320" y="5334120"/>
            <a:chExt cx="7315200" cy="1066680"/>
          </a:xfrm>
        </p:grpSpPr>
        <p:sp>
          <p:nvSpPr>
            <p:cNvPr id="99" name=""/>
            <p:cNvSpPr/>
            <p:nvPr/>
          </p:nvSpPr>
          <p:spPr>
            <a:xfrm>
              <a:off x="1219320" y="5334120"/>
              <a:ext cx="73152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95280" y="5486400"/>
              <a:ext cx="708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n OpenGL Z-buffer is init to the maximum ,but the value may be opposite ,depend on 3D API or 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477120" y="533520"/>
            <a:ext cx="2066760" cy="2743200"/>
            <a:chOff x="6477120" y="533520"/>
            <a:chExt cx="2066760" cy="2743200"/>
          </a:xfrm>
        </p:grpSpPr>
        <p:sp>
          <p:nvSpPr>
            <p:cNvPr id="102" name=""/>
            <p:cNvSpPr/>
            <p:nvPr/>
          </p:nvSpPr>
          <p:spPr>
            <a:xfrm>
              <a:off x="6477120" y="533520"/>
              <a:ext cx="2057400" cy="274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399440" y="739800"/>
              <a:ext cx="638280" cy="24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973920" y="669960"/>
              <a:ext cx="425520" cy="25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6600" y="1600560"/>
              <a:ext cx="709560" cy="6858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1067040"/>
              <a:ext cx="1914480" cy="479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477120" y="533520"/>
            <a:ext cx="2057400" cy="2743200"/>
            <a:chOff x="6477120" y="533520"/>
            <a:chExt cx="2057400" cy="2743200"/>
          </a:xfrm>
        </p:grpSpPr>
        <p:sp>
          <p:nvSpPr>
            <p:cNvPr id="108" name=""/>
            <p:cNvSpPr/>
            <p:nvPr/>
          </p:nvSpPr>
          <p:spPr>
            <a:xfrm>
              <a:off x="6477120" y="533520"/>
              <a:ext cx="2057400" cy="274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399440" y="739440"/>
              <a:ext cx="637920" cy="24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920" y="762120"/>
              <a:ext cx="709560" cy="6858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973920" y="669600"/>
              <a:ext cx="425520" cy="25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1523880"/>
              <a:ext cx="1914480" cy="479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len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BlendFunc( sfactor , dfact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Bresult=RGBsrc*sfactor+RGBdest*d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Bsrc is incoming pixel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Bdest is the origi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lBlendFunc(GL_ONE , GL_ZERO) =&gt; over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lBlendFunc(GL_ONE , GL_ONE) =&gt; ad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19320" y="5334120"/>
            <a:ext cx="7315200" cy="1066680"/>
            <a:chOff x="1219320" y="5334120"/>
            <a:chExt cx="7315200" cy="1066680"/>
          </a:xfrm>
        </p:grpSpPr>
        <p:sp>
          <p:nvSpPr>
            <p:cNvPr id="116" name=""/>
            <p:cNvSpPr/>
            <p:nvPr/>
          </p:nvSpPr>
          <p:spPr>
            <a:xfrm>
              <a:off x="1219320" y="5334120"/>
              <a:ext cx="73152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5280" y="5486400"/>
              <a:ext cx="7086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3300"/>
                  </a:solidFill>
                  <a:latin typeface="Times New Roman"/>
                </a:rPr>
                <a:t>Remember to  glEnable (GL_BLEND) !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19320" y="5334120"/>
            <a:ext cx="7315200" cy="1066680"/>
            <a:chOff x="1219320" y="5334120"/>
            <a:chExt cx="7315200" cy="1066680"/>
          </a:xfrm>
        </p:grpSpPr>
        <p:sp>
          <p:nvSpPr>
            <p:cNvPr id="119" name=""/>
            <p:cNvSpPr/>
            <p:nvPr/>
          </p:nvSpPr>
          <p:spPr>
            <a:xfrm>
              <a:off x="1219320" y="5334120"/>
              <a:ext cx="7315200" cy="10666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5640" y="5486400"/>
              <a:ext cx="70866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3300"/>
                  </a:solidFill>
                  <a:latin typeface="Times New Roman"/>
                </a:rPr>
                <a:t>For a full description of pixel blending, please refer to your OpenGL manu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raw a Opaque Object into Scen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r Z-value =&gt; over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ther Z-value =&gt; ig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hen there are some transparent existing in the scene, Farther may need to blend with the value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void this problem, we might drawing all opaque object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553080" y="380880"/>
            <a:ext cx="2057400" cy="2743200"/>
            <a:chOff x="6553080" y="380880"/>
            <a:chExt cx="2057400" cy="2743200"/>
          </a:xfrm>
        </p:grpSpPr>
        <p:sp>
          <p:nvSpPr>
            <p:cNvPr id="124" name=""/>
            <p:cNvSpPr/>
            <p:nvPr/>
          </p:nvSpPr>
          <p:spPr>
            <a:xfrm>
              <a:off x="6553080" y="380880"/>
              <a:ext cx="2057400" cy="274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475040" y="586080"/>
              <a:ext cx="638280" cy="24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91360" y="860760"/>
              <a:ext cx="709200" cy="68580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7049520" y="517680"/>
              <a:ext cx="42552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4000" y="1683720"/>
              <a:ext cx="1915200" cy="4798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raw a Transparent Object into Scen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rc = Alpha value or Opacity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0 completely trans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1 completely opa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 : If the drawing RGBsrc is in front of the frame buffer(RGBd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nd formula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result = RGBsrc * Asrc + RGBdest * ( 1 – Asr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0" y="838080"/>
            <a:ext cx="2057400" cy="2743200"/>
            <a:chOff x="6858000" y="838080"/>
            <a:chExt cx="2057400" cy="2743200"/>
          </a:xfrm>
        </p:grpSpPr>
        <p:sp>
          <p:nvSpPr>
            <p:cNvPr id="132" name=""/>
            <p:cNvSpPr/>
            <p:nvPr/>
          </p:nvSpPr>
          <p:spPr>
            <a:xfrm>
              <a:off x="6858000" y="838080"/>
              <a:ext cx="2057400" cy="274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780320" y="990360"/>
              <a:ext cx="754200" cy="24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67480" y="1676520"/>
              <a:ext cx="709560" cy="6858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7238880" y="914040"/>
              <a:ext cx="541440" cy="259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1066680"/>
              <a:ext cx="1914480" cy="4795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ase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 : If the drawing RGBsrc is behind the frame buffer(RGBd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nd formula B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result = RGBsrc * (1-Adeti) + RGBdest * Ad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0" y="838080"/>
            <a:ext cx="2057400" cy="2743200"/>
            <a:chOff x="6858000" y="838080"/>
            <a:chExt cx="2057400" cy="2743200"/>
          </a:xfrm>
        </p:grpSpPr>
        <p:sp>
          <p:nvSpPr>
            <p:cNvPr id="140" name=""/>
            <p:cNvSpPr/>
            <p:nvPr/>
          </p:nvSpPr>
          <p:spPr>
            <a:xfrm>
              <a:off x="6858000" y="838080"/>
              <a:ext cx="2057400" cy="274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780320" y="990360"/>
              <a:ext cx="677880" cy="24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1295280"/>
              <a:ext cx="709560" cy="6858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7467120" y="914040"/>
              <a:ext cx="312840" cy="259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2057400"/>
              <a:ext cx="1914480" cy="4795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pth Complexi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th Complexity : the possibly multiple pixels occupying the same screen position but with different depth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th complexity of 1 : no primitives overlapping on the screen , only need to blend with background using formul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th complexity of 2 : the number of overlapping is two , an opaque maybe in front of a opaque , or a transparent , or beh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GL can disable Z-overwriting , so when a pixel is drawn , only the RGB values are change in the fram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lution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Z-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ll opaque primitive with Z-testing and Z-overwriting enab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transparent with back-face culling enabled, Z-overwriting disabled using blend formul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09:46:33Z</dcterms:created>
  <dc:creator>Ned_Dark_D</dc:creator>
  <dc:description/>
  <dc:language>en-US</dc:language>
  <cp:lastModifiedBy>Ned_Dark_D</cp:lastModifiedBy>
  <dcterms:modified xsi:type="dcterms:W3CDTF">2002-04-19T12:28:07Z</dcterms:modified>
  <cp:revision>7</cp:revision>
  <dc:subject/>
  <dc:title>口古月每週一報</dc:title>
</cp:coreProperties>
</file>