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F9DA-1868-4CF1-9CE8-93FFFBA4A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AD28-70D4-4E1C-AF65-6503EB1F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92E7-CEBE-468E-92A0-F21263B0F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C1A1-29DA-42AC-B87D-9FA5ED6FB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E6E9-3C0E-4FB4-AA7B-DAFDFC48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44F91-427B-4473-A06D-7525AB4F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973CC-DB06-42F4-87C8-E6742E21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D12C-FA3C-48C5-97AC-D8E27ACE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F4FA-AAAB-44BE-B3DD-A6CFC66F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8AE3-0972-44D2-87F2-8A319EFD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F278B-AEBC-4675-913A-0933DD67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BF4-9FE5-4A42-A219-98EACC26A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DBDBB-96D0-49DC-818B-BF74743F3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47F-4B6B-46F4-A726-E537B6E0B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C115A-DE06-4B73-B7F7-4C29DAAD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6D26-448B-4776-85F3-35ECAC142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C34F6-1FB6-461E-9DE2-5667630F6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FBE3-8104-430C-8FBC-928A2359D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80D-E8EA-4710-8BC6-BA7D25FAE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97FA-EF3B-4E38-8053-F8D841D2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18C4-2376-4461-9B8D-21B51789A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7C4E-6414-49AF-BF9E-DD8F382D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232-BC0A-48F0-9C41-D6ED65913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515E-EF61-4571-8A68-54E49570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A6646-BC34-4286-ADC2-ED234128B831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AE9C-A4E8-4A8E-9E37-EDFD9D81A03E}" type="slidenum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dvanced Texturing Using Texture Coordinate Gene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每週一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TW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kch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herical Reflection Map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not computationally feasible to perform one-bounce ray tracing for every point on sp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reate a spherical reflection map which contain a full 360-degree view of the environment information surrounding a point in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xture Coordinate Gener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vertex’s normal to generate texture coordin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 the environment is view-dependent so the spherical reflection map must be dynamically gene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 is hard!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uthor find that refusing to update the sphere map based on viewpoint is often not noticeab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ck facing draw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ce it has exactly the same s, t values as front-facing vertex,except their normal z are oppos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me other technique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ual-paraboloid mapp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bic environment mapp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xture Coordinate Animat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texture coordinate can be thought of as a simple 2D poi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animate texture simply by transfer texture coordina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exture Projection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ulating lighting effects such as spotlights and shadow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ometry that is projected onto texture needs to be in light sp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e graphic pipeline be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raphic Pipe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43000" y="1676520"/>
          <a:ext cx="6858000" cy="477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676520"/>
                    <a:ext cx="685800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ffcc66"/>
                </a:solidFill>
                <a:latin typeface="Arial"/>
              </a:rPr>
              <a:t>[0,1]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ange Mapp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normal object, after doing perspective division, the clip space is transferred to NDC space, which is ranged from [-1,1]at x,y coordin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exture space,the x, y coordinate are ranged from [0, 1]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we must perform scaling and translating to map NDC space to texture space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y Ques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object :perspective division -&gt; ND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texture:NDC-&gt; perspective division?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1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led texture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clamp and modulate mode and set texture border whi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3657600"/>
          <a:ext cx="2628720" cy="26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657600"/>
                    <a:ext cx="262872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"/>
          <p:cNvGraphicFramePr/>
          <p:nvPr/>
        </p:nvGraphicFramePr>
        <p:xfrm>
          <a:off x="4572000" y="3657600"/>
          <a:ext cx="264312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3657600"/>
                    <a:ext cx="264312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blem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ne-through effe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ure appear on both front and back side of the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ing light vector and vertex normal to determine whether the vertex is back fac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ing a parallel light at the location of the projector, if the color output from this light is black then the vertex is back fac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581280" y="2895480"/>
          <a:ext cx="3657600" cy="348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895480"/>
                    <a:ext cx="365760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here Mapp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matter the size and shape of the object being mapped , it is assumed to reflect the surrounding environment like a sphe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the rays from eye point to any point on sphere is assumed to be parallel to each other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447920" y="1981080"/>
          <a:ext cx="5562360" cy="37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981080"/>
                    <a:ext cx="5562360" cy="37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KCHU</cp:lastModifiedBy>
  <dcterms:modified xsi:type="dcterms:W3CDTF">2002-03-22T02:10:13Z</dcterms:modified>
  <cp:revision>2</cp:revision>
  <dc:subject/>
  <dc:title>PowerPoint Presentation</dc:title>
</cp:coreProperties>
</file>