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0315-D9BC-40D1-8592-277517B1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99CD-574D-4434-8400-FB911C63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A2DE-7B1E-47AD-9FEA-A69256649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063C-C143-4692-898A-97DE5585D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9D0E-7170-411E-B17C-FE266E245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EFDB-ACBF-4DF0-AE60-BD1260B2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87D5-F148-4C44-944D-6012DA09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F5CD-DC3C-49D0-9E44-0CA2081F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6D3C-F76D-42D2-AED0-7DC36228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548A-7504-4F42-88CD-CBF6204F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A844-E456-4CDE-A2E9-7FCD7486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D1D9-DCA0-4BED-9C0E-024B6D5F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E17E-BC97-4A13-8BF8-64A923C2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58B5-AEB5-4C0B-AD29-1AA6992B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3AF3-E240-42B6-96FA-FE0C2C46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6B4C-34C0-4A01-BA17-EE186F910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12C3-CEA3-499A-8073-463A4F92D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DA3F-92F6-4749-8158-93FC73E6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A58B-6F8D-4315-8AB9-4A5CBD32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BB87-2E70-4C0C-8FEB-5C5F7EEF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4298-78E0-4EC5-A4A1-B92C6A33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C454-6464-4FF5-997C-C629A666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FB0F-0190-4A0A-AB9C-FD8C3BBF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8AE7-3795-43BC-92AC-384C3525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BFCC-8114-473B-9799-679B97FA7272}" type="slidenum">
              <a:rPr b="0" lang="zh-TW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AE80-C2E5-4F30-9DA6-9B36B01F07DC}" type="slidenum"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ound-Plane Shadow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b5249"/>
                </a:solidFill>
                <a:latin typeface="Times New Roman"/>
              </a:rPr>
              <a:t>每週一報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kchu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ecause the polygons projected onto the ground plane overlap, the overlapping areas show up darker than the non-overlapped area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Using Z-Buffer eliminates this artifact effec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Using glPolygonOffset if Z-Buffer is imprecision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pplic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sing this technique multiple times, shadow can be simultaneously cast onto multiple planes, such as the corner between a wall and the floor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rojecting shadows of arbitrary objects onto other arbitrary objects or arbitrary terrain is difficul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t is relatively easy to project shadows onto a flat ground pla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s article presents a easy way to simulate shadow effect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hadow Math and S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2101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point on the surface is in shadow if a ray from the light to the point intersects the objec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asting rays from the light through each of the vertices of the model onto the surface outlines the areas of the surface that are in shadow-&gt;not suitable for real-time rendering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nt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odify the surface vertices color ,darkening the vertices that are in shadow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Reduce the precision of the shadow ,because depend on the vertices density of the surfa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ynamic texture map gener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result in higher detail than above two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ost is expensiv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implifier Metho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nly suitable for projecting shadow on “flat plane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(lx,ly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                                  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(Px,Py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(Sx,Sy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352680"/>
            <a:ext cx="533520" cy="457200"/>
          </a:xfrm>
          <a:prstGeom prst="sun">
            <a:avLst>
              <a:gd name="adj" fmla="val 46875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640" bIns="-2664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5715000"/>
            <a:ext cx="388620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666880" y="3352680"/>
            <a:ext cx="0" cy="236232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504960" y="3581280"/>
            <a:ext cx="2819160" cy="213372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24280" y="4572000"/>
            <a:ext cx="533520" cy="1143000"/>
          </a:xfrm>
          <a:prstGeom prst="upArrow">
            <a:avLst>
              <a:gd name="adj1" fmla="val 50000"/>
              <a:gd name="adj2" fmla="val 53559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nt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Light is relatively far away from the object relative to the length if the shadow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o (Sx - Lx) is approximate (Ox - Lx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200400" y="1905120"/>
                <a:ext cx="276228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x</m:t>
                        </m:r>
                        <m:r>
                          <m:rPr>
                            <m:lit/>
                            <m:nor/>
                          </m:rPr>
                          <m:t xml:space="preserve">-P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x - L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590920" y="3276720"/>
                <a:ext cx="4419360" cy="12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y</m:t>
                    </m:r>
                    <m:r>
                      <m:t xml:space="preserve">∗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x</m:t>
                        </m:r>
                        <m:r>
                          <m:rPr>
                            <m:lit/>
                            <m:nor/>
                          </m:rPr>
                          <m:t xml:space="preserve">- L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nt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x = Px + Py*k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K =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same for other axi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362320" y="3048120"/>
                <a:ext cx="160020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x</m:t>
                        </m:r>
                        <m:r>
                          <m:rPr>
                            <m:lit/>
                            <m:nor/>
                          </m:rPr>
                          <m:t xml:space="preserve">- L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mplemen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same as projecting a object to screen space , except multiplying extra projection matrix to create “shadowed object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Vs = Pc*Vc*S*Mo*V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o:object model transfor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:shadowed object projection matrix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Vc:camera viewing transfor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c:camera projection transform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nt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nder each vertices as s flat-shaded translucent gra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sing a model with fewer polygons to generate shadowed objec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KCHU</cp:lastModifiedBy>
  <dcterms:modified xsi:type="dcterms:W3CDTF">2002-03-22T02:56:08Z</dcterms:modified>
  <cp:revision>1</cp:revision>
  <dc:subject/>
  <dc:title>PowerPoint Presentation</dc:title>
</cp:coreProperties>
</file>