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70C-FCE4-4390-8602-CBDE1C65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2CB-F3F5-4566-8483-F530DEDD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181-FF1D-4276-AC51-1578345A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EF0-0A9C-44BC-94ED-2BF0208D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0A1-1567-4B2D-8E97-1C7F562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8BB-6608-4A32-8AC4-DC6C952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670-6C01-464B-9F80-7090A44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D56-DE93-460B-8C87-3F450AB5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959-20E5-4B16-9756-7042104D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3A8-E44D-40D6-BBEA-29B01D6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B5C-DA58-42C5-86F1-5551E91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F6D-5864-42FA-9837-3992314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3FE-6C65-4CDA-8661-9B77895313A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00"/>
                </a:solidFill>
                <a:latin typeface="Arial"/>
              </a:rPr>
              <a:t>MFC </a:t>
            </a:r>
            <a:r>
              <a:rPr b="0" lang="zh-TW" sz="5500" spc="-1" strike="noStrike">
                <a:solidFill>
                  <a:srgbClr val="ffff00"/>
                </a:solidFill>
                <a:latin typeface="Arial"/>
              </a:rPr>
              <a:t>視窗程式設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建立回應機制 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回應標準系統訊息，以回應滑鼠移動而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BEGIN_MESSAGE_MAP(XXX, YYY)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ON_WM_MOUSEMOV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END_MESSAGE_MAP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afx_msg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void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類別名稱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::OnMouseMove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UINT nFlags, CPoint point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建立回應機制 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回應命令訊息，如回應選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BEGIN_MESSAGE_MAP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ON_COMMAND(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訊息來源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回應函數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END_MESSAGE_MAP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00"/>
                </a:solidFill>
                <a:latin typeface="Arial"/>
              </a:rPr>
              <a:t>afx_msg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void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類別名稱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::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回應函數名稱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4800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建立資源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9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95280" y="757080"/>
          <a:ext cx="813744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57080"/>
                    <a:ext cx="81374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24360" y="1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411280" y="2852640"/>
            <a:ext cx="5616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簡介 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利用類別庫建立視窗，此類別庫稱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Application Frameworks(AF)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2.AF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供所有視窗程式共通部分：視窗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選單、工具列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供基本架構，而讓使用者專心於增加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修改程式功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.MF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0755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全名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Microsoft Foundation Class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，是微軟公司在整合開發環境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Visual C++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中，使用的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AF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簡介 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MFC 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繼承架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413000"/>
            <a:ext cx="122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1989000"/>
            <a:ext cx="194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Cmd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492280"/>
            <a:ext cx="18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ThreadW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2924280"/>
            <a:ext cx="1582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Win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1844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2421000"/>
            <a:ext cx="144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357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357720"/>
            <a:ext cx="93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W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378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44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716280"/>
            <a:ext cx="122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4292640"/>
            <a:ext cx="18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FrameW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5084640"/>
            <a:ext cx="18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522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.HelloMF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413000"/>
            <a:ext cx="770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建立一個最簡單的視窗程式：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HelloM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2565360"/>
            <a:ext cx="28814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應用程式物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3141720"/>
            <a:ext cx="28814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_pMainW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4292640"/>
            <a:ext cx="2881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視窗框架物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2852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44370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指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321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產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155736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include &lt;afxwin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MyApp : public CWinApp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itIn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FrameWnd *Frame = new CFrameWn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_pMainW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Fr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-&gt;Create(NULL, "Hello MFC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-&gt;ShowWindow(SW_SH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a_ap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981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loMFC 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620640"/>
            <a:ext cx="6985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重點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BOOL CWinApp::Init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為程式開始處，一般來說肩負幾項重要任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CFrameWnd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CWinApp::m_pMainW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建立視窗框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d. show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CWinApp::m_pMainW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替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CWinApp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物件指向一個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CFrameWnd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物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視窗訊息處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MFC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下訊息處理是利用訊息映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DECLARE_MESSAGE_MA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BEGIN_MESSAGE_MAP(derived class_na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based class_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END_MESSAGE_MA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訊息種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zh-TW" sz="3200" spc="-1" strike="noStrike">
                <a:solidFill>
                  <a:srgbClr val="ffff00"/>
                </a:solidFill>
                <a:latin typeface="Arial"/>
              </a:rPr>
              <a:t>標準系統訊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由作業系統產生的訊息，如滑鼠移動，按鍵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zh-TW" sz="3200" spc="-1" strike="noStrike">
                <a:solidFill>
                  <a:srgbClr val="ffff00"/>
                </a:solidFill>
                <a:latin typeface="Arial"/>
              </a:rPr>
              <a:t>命令訊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由使用者創造的選單、工具列、控制項等產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而使用者可以根據回應的訊息，建立回應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4:19:01Z</dcterms:created>
  <dc:creator>Keiko</dc:creator>
  <dc:description/>
  <dc:language>en-US</dc:language>
  <cp:lastModifiedBy>Keiko</cp:lastModifiedBy>
  <dcterms:modified xsi:type="dcterms:W3CDTF">2003-03-15T00:55:32Z</dcterms:modified>
  <cp:revision>20</cp:revision>
  <dc:subject/>
  <dc:title>投影片 1</dc:title>
</cp:coreProperties>
</file>