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5C88-2E1E-4F2B-A489-0EA9CD40E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9EF6-E024-4A95-B4CB-0FB5E1F5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87FCF-2EBD-489F-901B-F6BCA4BC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9CE7-BD87-44AF-BE12-A230BB06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6474-2810-4C49-95C1-1F93FA19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BF95-8A0F-4076-A855-342E770D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28B7-2D94-4937-8138-B82F7F5C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522B-3CE4-412A-9CD9-F9BD78C0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E97B-F868-4065-82B7-07508C88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58AD5-39CB-42A8-ACBA-433D09EB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7CC6-6689-46A5-999B-0211CA2D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A1D82-4859-4F66-85A6-C2236111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4FE1-3AF0-4D13-88A1-ED845C4B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200F-1347-4FF9-B0BC-E8D8A442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7D80-C8EA-4D4D-B590-D24D5C20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9B68-1032-49E8-8BE0-1E535562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AD48-2DF5-4560-B07C-11DE1051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02B75-810B-4B4C-BB6E-4B40D195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9D0BD-B962-42AA-883F-B5E52330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9020B-79A4-4A2C-9033-AE24BA2E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6F045-396A-43B5-814A-1E58F4AC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5238-7FF0-43AB-AE7F-A15FE688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AB15E-63FF-408C-AD9B-C227C0EA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EAA6C-7CD4-465D-8C12-2F90327F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4B97-8118-403A-8226-330FD5B7C1F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185B-D108-4187-A142-C07DFAAA2DCC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rticle  System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TW" sz="3400" spc="-1" strike="noStrike">
                <a:solidFill>
                  <a:srgbClr val="9999ff"/>
                </a:solidFill>
                <a:latin typeface="Arial"/>
              </a:rPr>
              <a:t>蔡長榕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Sha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collection of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 around the point + billboard + tex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le Mana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of creatin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in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ing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dering all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4365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1. A global overview of the sytem we are going to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9640" y="457200"/>
            <a:ext cx="5040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ParticleSystem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r,    //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Vector3   centerPos, 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ndMode blend  = Blend_AddAlph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String file name="Effects/Particles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green_particle",  //textur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leSystemType type=PS_Manual  //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to add new attribute =&gt;can create a InitInfo 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=&gt;decrease  constructor’s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icle manager class fun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                        Initializes the particle mana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System          Adds a specified particle system to the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System   Removes a specified particl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                Updates all active particles systems and removes all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which died after the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der                 Renders all active and visible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utdown             Shuts down the manager (removes all allocate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ExistChecks whether a given particle system will exists in th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le manager (if it has not been removed y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realistic natural phenomena in real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ves realized that by applying a system of rules to partic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Struc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cle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 t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article *prev,*next; //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ector pos; // CURREN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ector prevPos; // PREVIOUS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ector dir; // CURRENT DIRECTION WITH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life; // HOW LONG IT WILL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olor color; // CURRENT COLOR OF 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olor prevColor; // LAST COLOR OF P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olor deltaColor; // CHANGE OF 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cy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unc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particle syste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itte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up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ParticleDe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tter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parti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particle(pos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w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…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leCount = emitNumber + (emitVariance *RandomNum(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99ff"/>
                </a:solidFill>
                <a:latin typeface="Arial"/>
              </a:rPr>
              <a:t>Color</a:t>
            </a:r>
            <a:r>
              <a:rPr b="1" lang="zh-TW" sz="3200" spc="-1" strike="noStrike">
                <a:solidFill>
                  <a:srgbClr val="9999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9999ff"/>
                </a:solidFill>
                <a:latin typeface="Arial"/>
              </a:rPr>
              <a:t>direction</a:t>
            </a:r>
            <a:r>
              <a:rPr b="1" lang="zh-TW" sz="3200" spc="-1" strike="noStrike">
                <a:solidFill>
                  <a:srgbClr val="9999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9999ff"/>
                </a:solidFill>
                <a:latin typeface="Arial"/>
              </a:rPr>
              <a:t>speed</a:t>
            </a:r>
            <a:r>
              <a:rPr b="1" lang="zh-TW" sz="3200" spc="-1" strike="noStrike">
                <a:solidFill>
                  <a:srgbClr val="9999ff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9999ff"/>
                </a:solidFill>
                <a:latin typeface="Arial"/>
              </a:rPr>
              <a:t>lif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tation about y is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’ = x*cos(q) + z*sin(q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’ =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’ = -x*sin(q) + z*cos(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tation of about x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’ =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’ = y*cos(y) - z*sin(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’ = y*sin(y) + z*cos(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rix combin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-&gt;x = -sin(yaw) * cos(pitc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-&gt;y = sin(pitch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-&gt;z = cos(pitch) * cos(ya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date fun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s all particle positions and other attrib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to delete a system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a new particle to an e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void many costly memory allocations ,all particles are created in a common particle p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ed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2T23:57:11Z</dcterms:created>
  <dc:creator>handlesome</dc:creator>
  <dc:description/>
  <dc:language>en-US</dc:language>
  <cp:lastModifiedBy>handlesome</cp:lastModifiedBy>
  <dcterms:modified xsi:type="dcterms:W3CDTF">2003-03-14T10:24:42Z</dcterms:modified>
  <cp:revision>7</cp:revision>
  <dc:subject/>
  <dc:title>Particle 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