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D47-F32B-4A6C-BEF0-9082BF75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EBE-CF0B-44E0-897E-E5A7BB92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78F-3B83-410D-989A-21FB0EBD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250-1274-455D-8A57-3409A2D7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F345-4514-4C90-9D54-48AB3F12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7932-5D22-4B1D-BDD6-4243EB91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AD70-7603-4BD7-B6BB-D1EBD7D1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3228-D3E7-441A-8EB3-8000B3EA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CF34-C1B6-4AE0-BDA0-5A1C1183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4208-3555-451E-9137-50AE7D71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8CAB-EB92-47FB-8794-B356F2F7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AD5-AD72-407C-98A1-6E94A930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310F-D8FD-4A28-81CD-7E7D1F1E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2E75-1E20-46D9-9D84-1E77DE21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9431-5F2B-42C4-BB79-ED5ACD8D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4DA6-ECE3-434D-9DE5-1B54E632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622C-A8A2-44EC-B946-5694704A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D10-3432-492F-A0A8-C7CC85E4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966-9DE8-4A15-9193-534BC46E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7DA-69EE-406B-8E41-8CAA5831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FCF-5BA1-433B-834D-AB98C2DA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B6D-9F6C-41A8-AFE9-E6D6DB4F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5E5-4393-4A8F-A1C5-68E1508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76F-E7BC-43BA-BCB4-D09DF4D2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9B22-F6AB-47A4-8F3C-53971CC3B062}" type="slidenum">
              <a:rPr b="0" lang="zh-TW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13CE-3750-4CA3-B872-07F45D1E1627}" type="slidenum">
              <a:rPr b="0" lang="zh-TW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c00"/>
                </a:solidFill>
                <a:latin typeface="Arial"/>
              </a:rPr>
              <a:t>OpenGL Selection Mode and Feedback Mode</a:t>
            </a:r>
            <a:endParaRPr b="0" lang="en-US" sz="4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19160" y="464832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2003 / 03 / 0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Crazi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Team Koguy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"/>
              </a:rPr>
              <a:t>Basic concepts for feedback mode(3/4)</a:t>
            </a:r>
            <a:r>
              <a:rPr b="0" lang="zh-TW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zh-TW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zh-TW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ffcc00"/>
                </a:solidFill>
                <a:latin typeface="Arial"/>
              </a:rPr>
              <a:t>( from RedBook 278 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Untitled-2%20copy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5345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concepts for feedback mode(4/4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The structure of feedback buffer ( scanned form SuperBible p.485 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Image2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6885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nGL functions for feedback mo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FeedbackBuffer( ) </a:t>
            </a:r>
            <a:r>
              <a:rPr b="1" lang="zh-TW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ffffcc"/>
                </a:solidFill>
                <a:latin typeface="Times New Roman"/>
              </a:rPr>
              <a:t>set buffer size and poin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PassThrough( )      </a:t>
            </a:r>
            <a:r>
              <a:rPr b="1" lang="zh-TW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ffffcc"/>
                </a:solidFill>
                <a:latin typeface="Times New Roman"/>
              </a:rPr>
              <a:t>pass a user defined token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Calling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PassThrough( )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between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Begin( )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End( )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generates a error of GL_INVALID_OPER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By the way , if the function is executed under the mode that is not match , then the function will be ignor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gram code examp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mple select exa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erarchy select exa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lect and feedback application exa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ffer proc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t record proc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ken proc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 is convenient for we to use OpenGL selection mode and feedback mode to develop interactive graphic program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can decide how to react with user , and to show the result or hint on the screen with high perform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uture work is to add this modulate into KG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penGL render mo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ic concepts for selection mo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penGL functions for selection mo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ic concepts for feedback mo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penGL functions for feedback mo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gram code examp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nGL Render Mod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Render mode (default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Selection mo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Feedback mo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Since the default render mode due to draw objects on screen , selection and feedback mode satisfy our other requ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We can switch among different modes by using function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RenderMode( 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-620640"/>
            <a:ext cx="863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concepts for selection mode (1/2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Why may we need the convenience of this mode provided by OpenGL 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</a:rPr>
              <a:t>We don’t need to calculate the vertex position by the way of un-proje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</a:rPr>
              <a:t>With the mechanism Name Stack , picking can be hierarchical and fa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During selection mode , nothing will be drawn on screen but in the buff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We should check the selection buffer ( a GLuint array )and the hit record for the information we ne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concepts for selection mode (2/2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The structure of selection buffer ( scanned form SuperBible p.475 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Image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8001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-620640"/>
            <a:ext cx="863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nGL functions for selection mode(1/2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RenderMode() </a:t>
            </a:r>
            <a:r>
              <a:rPr b="1" lang="zh-TW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ffffcc"/>
                </a:solidFill>
                <a:latin typeface="Times New Roman"/>
              </a:rPr>
              <a:t>switch render mode and return resul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SelectBuffer( ) </a:t>
            </a:r>
            <a:r>
              <a:rPr b="1" lang="zh-TW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ffffcc"/>
                </a:solidFill>
                <a:latin typeface="Times New Roman"/>
                <a:ea typeface="標楷體"/>
              </a:rPr>
              <a:t>set buffer size and it’s</a:t>
            </a:r>
            <a:r>
              <a:rPr b="1" lang="zh-TW" sz="2000" spc="-1" strike="noStrike">
                <a:solidFill>
                  <a:srgbClr val="ffffcc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InitNames( )    </a:t>
            </a:r>
            <a:r>
              <a:rPr b="1" lang="zh-TW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</a:rPr>
              <a:t>initialize the name satc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LoadName( )   </a:t>
            </a:r>
            <a:r>
              <a:rPr b="1" lang="zh-TW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</a:rPr>
              <a:t>replace the top one on</a:t>
            </a:r>
            <a:r>
              <a:rPr b="1" lang="zh-TW" sz="2000" spc="-1" strike="noStrike">
                <a:solidFill>
                  <a:srgbClr val="ffffcc"/>
                </a:solidFill>
                <a:latin typeface="Times New Roman"/>
              </a:rPr>
              <a:t> the name stac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PushName( )    </a:t>
            </a:r>
            <a:r>
              <a:rPr b="1" lang="zh-TW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</a:rPr>
              <a:t>push for the name stac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PopName( )      </a:t>
            </a:r>
            <a:r>
              <a:rPr b="1" lang="zh-TW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</a:rPr>
              <a:t>pop for the name stac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gluPickMatrix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( ) </a:t>
            </a:r>
            <a:r>
              <a:rPr b="0" lang="zh-TW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</a:rPr>
              <a:t>picking for a given ran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nGL functions for selection mode(2/2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Each Name for objects or primitives is an unsigned integ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We have to store the matrix since we are going to re-draw the objects to be checked under different render mod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Use glGetInteger{n}( ) , we can get the viewport information ( to calculate screen coordinates ) and check sates ( if the stack is under or over flow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-620640"/>
            <a:ext cx="863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concepts for feedback mode(1/4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Why may we need the convenience of this mode provided by OpenGL 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</a:rPr>
              <a:t>Since many of the results of calculations of the rendering pipeline are done by OpenGL , it may be troublesome if we just want to get the result without counting it ourselve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Like the selection mode , under feedback mode nothing will be drawn on screen but in the buff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We can just pass the information we want into the feedback buffer ( a GLufloat array )and then check i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7520" y="4968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concepts for feedback mode(2/4)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( from Redbook p277 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Untitled-1%20copy" descr=""/>
          <p:cNvPicPr/>
          <p:nvPr/>
        </p:nvPicPr>
        <p:blipFill>
          <a:blip r:embed="rId2"/>
          <a:stretch/>
        </p:blipFill>
        <p:spPr>
          <a:xfrm>
            <a:off x="157320" y="1600200"/>
            <a:ext cx="88344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2:42:50Z</dcterms:created>
  <dc:creator>crazier</dc:creator>
  <dc:description/>
  <dc:language>en-US</dc:language>
  <cp:lastModifiedBy>crazier</cp:lastModifiedBy>
  <dcterms:modified xsi:type="dcterms:W3CDTF">2003-03-07T04:39:52Z</dcterms:modified>
  <cp:revision>19</cp:revision>
  <dc:subject/>
  <dc:title>OpenGL Selection Mode and Feedback Mode</dc:title>
</cp:coreProperties>
</file>